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6.png" ContentType="image/png"/>
  <Override PartName="/ppt/media/image30.wmf" ContentType="image/x-wmf"/>
  <Override PartName="/ppt/media/image45.png" ContentType="image/png"/>
  <Override PartName="/ppt/media/image28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13.png" ContentType="image/png"/>
  <Override PartName="/ppt/media/image46.png" ContentType="image/png"/>
  <Override PartName="/ppt/media/image6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EAC-CE8C-4BC1-AA26-B83984814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819F-B04D-452E-8379-23B9E0E76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C488-3F7F-4E45-8DA9-83479EA2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9102-2132-4F0B-957F-50399586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4167-E7AB-4874-A9FC-1C628D24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9DCD1-7468-4EA9-B2D7-E1FDD2AAE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CEC7-7D2F-44D1-9EE9-B7D7D95B2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06DE-743F-4AC6-A49D-CDFAAC39D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907D-D2E8-416C-96E8-4F38187AA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565EF-A672-406B-92F8-88743AE1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57E82-BDD3-426B-8361-8D105AFD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BF2AA-BEDC-43D7-A9D8-E05E914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95F38-2CA9-4E56-AB33-F563697D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FAD95-1E8E-4588-B5A0-A3552DB9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16307-4013-4EF5-919D-973496FB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28184-A586-41FC-8C69-8681986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B4E6-03C4-4224-92F5-D7FEB8539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8D356-B007-4DE9-8367-7808AF6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0C4E6-2EBD-4F18-BAA4-61BE916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C1010-7F63-44EF-866C-7D69AF53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44B40-6766-4430-8379-5B07ADFD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BB548-25F1-4B81-9430-FACB66A0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F28E-C760-4F85-9E5D-948161173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6023-6FEE-472C-91EC-3D0E7BDC9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172A-AC5D-49D3-859A-992684121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70E82-A413-42D3-83CD-C988D0317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EB0C-D3A4-4756-B5D7-5338A5721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B456-1EE5-4529-894E-29E23C88D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C73D-DD23-48B0-A6C4-6E234570D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C995-EF02-4F80-AB59-F326D518E5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D8A-FF48-4D31-84CD-A20BB74421D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7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The Repetition Structur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A2C8-3FF6-4786-A00D-A5F3DC9617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re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939960" y="2084400"/>
            <a:ext cx="72626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9737-D1BF-4DC8-B52A-E32DC99EC35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1371600" y="914400"/>
            <a:ext cx="6660720" cy="5333760"/>
            <a:chOff x="1371600" y="914400"/>
            <a:chExt cx="6660720" cy="5333760"/>
          </a:xfrm>
        </p:grpSpPr>
        <p:pic>
          <p:nvPicPr>
            <p:cNvPr id="131" name="Picture 4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563160" cy="11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"/>
            <p:cNvPicPr/>
            <p:nvPr/>
          </p:nvPicPr>
          <p:blipFill>
            <a:blip r:embed="rId2"/>
            <a:stretch/>
          </p:blipFill>
          <p:spPr>
            <a:xfrm>
              <a:off x="1387440" y="2145240"/>
              <a:ext cx="653112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"/>
            <p:cNvPicPr/>
            <p:nvPr/>
          </p:nvPicPr>
          <p:blipFill>
            <a:blip r:embed="rId3"/>
            <a:stretch/>
          </p:blipFill>
          <p:spPr>
            <a:xfrm>
              <a:off x="1387440" y="3376080"/>
              <a:ext cx="6531120" cy="13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"/>
            <p:cNvPicPr/>
            <p:nvPr/>
          </p:nvPicPr>
          <p:blipFill>
            <a:blip r:embed="rId4"/>
            <a:stretch/>
          </p:blipFill>
          <p:spPr>
            <a:xfrm>
              <a:off x="1387440" y="4754160"/>
              <a:ext cx="653112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8"/>
            <p:cNvSpPr/>
            <p:nvPr/>
          </p:nvSpPr>
          <p:spPr>
            <a:xfrm>
              <a:off x="7894080" y="2076840"/>
              <a:ext cx="138240" cy="389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Rectangle 2"/>
          <p:cNvSpPr/>
          <p:nvPr/>
        </p:nvSpPr>
        <p:spPr>
          <a:xfrm>
            <a:off x="304920" y="763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re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DECB-42DB-43F8-AB72-0828763D97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958680" y="1951200"/>
            <a:ext cx="72266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4C61-CCF3-48A4-9C38-18A67CAB18B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976320" y="2525760"/>
            <a:ext cx="7191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F878-B152-4DF5-BC26-E64388DE33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 Example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’Donnell Incorporated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58680" y="2438280"/>
            <a:ext cx="722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C8C-7F9E-4788-B1F6-FC218B856B7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80880" y="1650960"/>
            <a:ext cx="7226280" cy="3987720"/>
          </a:xfrm>
          <a:prstGeom prst="rect">
            <a:avLst/>
          </a:prstGeom>
          <a:ln w="0">
            <a:noFill/>
          </a:ln>
        </p:spPr>
      </p:pic>
      <p:sp>
        <p:nvSpPr>
          <p:cNvPr id="152" name="Line 6"/>
          <p:cNvSpPr/>
          <p:nvPr/>
        </p:nvSpPr>
        <p:spPr>
          <a:xfrm flipH="1" flipV="1">
            <a:off x="5714640" y="4724280"/>
            <a:ext cx="716040" cy="347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6553080" y="5029200"/>
            <a:ext cx="230184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getting this statement turns loop into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dles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inite lo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 Example – O’Donnell Incorporated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4118-734F-4DF1-8CA1-919BA6EBB2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34880" y="2362320"/>
            <a:ext cx="8328240" cy="22096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 Example – O’Donnell Incorporated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FBBC-0274-430B-A3D0-11593565A9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Counters and Accumulato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ounter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ariable used for counting someth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number of employees paid in a wee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ccumulator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ariable used for accumula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total dollar amount of a week’s payro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itializing: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igning a beginning value to counter or accumul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ically zer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Updat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crement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dding a number to counter or accumul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5BED-9350-48B3-90CD-AE3233A1DD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58680" y="2689200"/>
            <a:ext cx="7226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AA63-D4CB-44B7-991D-6B86839370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828800" y="1185840"/>
            <a:ext cx="5562720" cy="5138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AB08-80C8-44C0-ADA2-1FC6947BB7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repetition structure in pseudo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repetition structure in a flowchar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e a pretest loop using the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itialize and update counters and accumulato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e a pretest loop using the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6DD2-3070-4184-AF49-A7FE04EAEF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1738440" y="1295280"/>
            <a:ext cx="5728680" cy="4953240"/>
            <a:chOff x="1738440" y="1295280"/>
            <a:chExt cx="5728680" cy="4953240"/>
          </a:xfrm>
        </p:grpSpPr>
        <p:pic>
          <p:nvPicPr>
            <p:cNvPr id="174" name="Picture 5" descr=""/>
            <p:cNvPicPr/>
            <p:nvPr/>
          </p:nvPicPr>
          <p:blipFill>
            <a:blip r:embed="rId1"/>
            <a:stretch/>
          </p:blipFill>
          <p:spPr>
            <a:xfrm>
              <a:off x="1749960" y="1317240"/>
              <a:ext cx="5607360" cy="10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6" descr=""/>
            <p:cNvPicPr/>
            <p:nvPr/>
          </p:nvPicPr>
          <p:blipFill>
            <a:blip r:embed="rId2"/>
            <a:stretch/>
          </p:blipFill>
          <p:spPr>
            <a:xfrm>
              <a:off x="1738440" y="2473200"/>
              <a:ext cx="5607360" cy="106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8" descr=""/>
            <p:cNvPicPr/>
            <p:nvPr/>
          </p:nvPicPr>
          <p:blipFill>
            <a:blip r:embed="rId3"/>
            <a:stretch/>
          </p:blipFill>
          <p:spPr>
            <a:xfrm>
              <a:off x="1738440" y="3623040"/>
              <a:ext cx="5607360" cy="12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"/>
            <p:cNvPicPr/>
            <p:nvPr/>
          </p:nvPicPr>
          <p:blipFill>
            <a:blip r:embed="rId4"/>
            <a:stretch/>
          </p:blipFill>
          <p:spPr>
            <a:xfrm>
              <a:off x="1738440" y="4892400"/>
              <a:ext cx="5607360" cy="13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10"/>
            <p:cNvSpPr/>
            <p:nvPr/>
          </p:nvSpPr>
          <p:spPr>
            <a:xfrm>
              <a:off x="7343280" y="1295280"/>
              <a:ext cx="123840" cy="76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951B-195C-4C87-B331-C65E9C0E92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 and Accumulator Examples – Sales Express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3911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8E24-6A6A-47E3-AEAB-D9C7BBB29D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Pretes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previous programs, user controls loop termination by entering a sentinel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can also control the termination of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ypically, done using a coun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unter-controlled loop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xample: Jasper Music Company progra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8F96-2CA3-44C4-910B-1D5F6F8CB59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Loop Example – Jasper Music Compan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101600" y="1658880"/>
            <a:ext cx="6939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5A7D-E050-498D-86F8-6615B0E404F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676520" y="1308240"/>
            <a:ext cx="5597280" cy="4787280"/>
            <a:chOff x="1676520" y="1308240"/>
            <a:chExt cx="5597280" cy="4787280"/>
          </a:xfrm>
        </p:grpSpPr>
        <p:pic>
          <p:nvPicPr>
            <p:cNvPr id="195" name="Picture 4" descr=""/>
            <p:cNvPicPr/>
            <p:nvPr/>
          </p:nvPicPr>
          <p:blipFill>
            <a:blip r:embed="rId1"/>
            <a:stretch/>
          </p:blipFill>
          <p:spPr>
            <a:xfrm>
              <a:off x="1676520" y="1381680"/>
              <a:ext cx="550800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"/>
            <p:cNvPicPr/>
            <p:nvPr/>
          </p:nvPicPr>
          <p:blipFill>
            <a:blip r:embed="rId2"/>
            <a:stretch/>
          </p:blipFill>
          <p:spPr>
            <a:xfrm>
              <a:off x="1690920" y="2385360"/>
              <a:ext cx="547704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6" descr=""/>
            <p:cNvPicPr/>
            <p:nvPr/>
          </p:nvPicPr>
          <p:blipFill>
            <a:blip r:embed="rId3"/>
            <a:stretch/>
          </p:blipFill>
          <p:spPr>
            <a:xfrm>
              <a:off x="1707120" y="3546000"/>
              <a:ext cx="5446080" cy="11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4"/>
            <a:stretch/>
          </p:blipFill>
          <p:spPr>
            <a:xfrm>
              <a:off x="1690920" y="4802760"/>
              <a:ext cx="547848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8"/>
            <p:cNvSpPr/>
            <p:nvPr/>
          </p:nvSpPr>
          <p:spPr>
            <a:xfrm>
              <a:off x="7144200" y="1308240"/>
              <a:ext cx="129600" cy="459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Loop Example – Jasper Music Compan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FFE5-CDB5-42C3-BD22-B83280C1FB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unter-Controlled Loop Example – Jasper Music Compan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76320" y="2895480"/>
            <a:ext cx="7191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6CD7-01A1-487F-9FE5-B2CE2F0FDD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1295280" y="1359000"/>
            <a:ext cx="6477120" cy="5015880"/>
            <a:chOff x="1295280" y="1359000"/>
            <a:chExt cx="6477120" cy="501588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1371600" y="1473120"/>
              <a:ext cx="6400800" cy="49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5"/>
            <p:cNvSpPr/>
            <p:nvPr/>
          </p:nvSpPr>
          <p:spPr>
            <a:xfrm>
              <a:off x="1295280" y="1359000"/>
              <a:ext cx="1143000" cy="9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73FD-345B-471B-95B5-F040061BC8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98520" y="1143000"/>
            <a:ext cx="6550200" cy="5116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533520" y="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AA72-BE0A-4113-B839-F6E62B9A6A7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1828800" y="1042920"/>
            <a:ext cx="5410080" cy="53578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533520" y="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to Code a Pre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1AD3-9058-41C9-8C46-DEF6E47ABC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1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lmes Suppl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976320" y="1943280"/>
            <a:ext cx="71913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86D8-8924-4477-8F41-1AA8F20350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Repetition Stru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e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6AD6-B711-4B6A-92A0-D64382059C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9"/>
          <p:cNvGrpSpPr/>
          <p:nvPr/>
        </p:nvGrpSpPr>
        <p:grpSpPr>
          <a:xfrm>
            <a:off x="1793880" y="1219320"/>
            <a:ext cx="5444640" cy="5028840"/>
            <a:chOff x="1793880" y="1219320"/>
            <a:chExt cx="5444640" cy="5028840"/>
          </a:xfrm>
        </p:grpSpPr>
        <p:pic>
          <p:nvPicPr>
            <p:cNvPr id="226" name="Picture 4" descr=""/>
            <p:cNvPicPr/>
            <p:nvPr/>
          </p:nvPicPr>
          <p:blipFill>
            <a:blip r:embed="rId1"/>
            <a:stretch/>
          </p:blipFill>
          <p:spPr>
            <a:xfrm>
              <a:off x="1793880" y="1219320"/>
              <a:ext cx="529668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5" descr=""/>
            <p:cNvPicPr/>
            <p:nvPr/>
          </p:nvPicPr>
          <p:blipFill>
            <a:blip r:embed="rId2"/>
            <a:stretch/>
          </p:blipFill>
          <p:spPr>
            <a:xfrm>
              <a:off x="1822320" y="2287800"/>
              <a:ext cx="523836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6" descr=""/>
            <p:cNvPicPr/>
            <p:nvPr/>
          </p:nvPicPr>
          <p:blipFill>
            <a:blip r:embed="rId3"/>
            <a:stretch/>
          </p:blipFill>
          <p:spPr>
            <a:xfrm>
              <a:off x="1807920" y="3492720"/>
              <a:ext cx="5268240" cy="124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7" descr=""/>
            <p:cNvPicPr/>
            <p:nvPr/>
          </p:nvPicPr>
          <p:blipFill>
            <a:blip r:embed="rId4"/>
            <a:stretch/>
          </p:blipFill>
          <p:spPr>
            <a:xfrm>
              <a:off x="1807920" y="4867920"/>
              <a:ext cx="5268240" cy="13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8"/>
            <p:cNvSpPr/>
            <p:nvPr/>
          </p:nvSpPr>
          <p:spPr>
            <a:xfrm>
              <a:off x="7051680" y="1281960"/>
              <a:ext cx="186840" cy="471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1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lmes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9E85-5B41-46B9-9134-6B5C7616313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1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lmes Suppl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993600" y="2803680"/>
            <a:ext cx="71550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CE41-57C2-46EC-8CF5-E8FF25DF12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2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lfax Sales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831960" y="1725480"/>
            <a:ext cx="74786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0D73-B928-4A01-945A-6C5F44BF947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1582560" y="1143000"/>
            <a:ext cx="6037200" cy="5257440"/>
            <a:chOff x="1582560" y="1143000"/>
            <a:chExt cx="6037200" cy="5257440"/>
          </a:xfrm>
        </p:grpSpPr>
        <p:pic>
          <p:nvPicPr>
            <p:cNvPr id="243" name="Picture 6" descr=""/>
            <p:cNvPicPr/>
            <p:nvPr/>
          </p:nvPicPr>
          <p:blipFill>
            <a:blip r:embed="rId1"/>
            <a:stretch/>
          </p:blipFill>
          <p:spPr>
            <a:xfrm>
              <a:off x="1582560" y="1143000"/>
              <a:ext cx="600660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7" descr=""/>
            <p:cNvPicPr/>
            <p:nvPr/>
          </p:nvPicPr>
          <p:blipFill>
            <a:blip r:embed="rId2"/>
            <a:stretch/>
          </p:blipFill>
          <p:spPr>
            <a:xfrm>
              <a:off x="1582560" y="2433960"/>
              <a:ext cx="6006600" cy="39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8" descr=""/>
            <p:cNvPicPr/>
            <p:nvPr/>
          </p:nvPicPr>
          <p:blipFill>
            <a:blip r:embed="rId3"/>
            <a:stretch/>
          </p:blipFill>
          <p:spPr>
            <a:xfrm>
              <a:off x="7427520" y="1153800"/>
              <a:ext cx="192240" cy="132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2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lfax Sales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8B1F-FD85-46DF-AF7C-7EE9C92F52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2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lfax Sales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976320" y="2798640"/>
            <a:ext cx="7191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9FE2-46EA-4D18-A862-251054466B3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3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gan Compan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1447920" y="1486080"/>
            <a:ext cx="62481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BE8C-6E70-49AA-A9FC-0B2D9368B7D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Group 7"/>
          <p:cNvGrpSpPr/>
          <p:nvPr/>
        </p:nvGrpSpPr>
        <p:grpSpPr>
          <a:xfrm>
            <a:off x="1341360" y="1908000"/>
            <a:ext cx="6462720" cy="4340160"/>
            <a:chOff x="1341360" y="1908000"/>
            <a:chExt cx="6462720" cy="4340160"/>
          </a:xfrm>
        </p:grpSpPr>
        <p:pic>
          <p:nvPicPr>
            <p:cNvPr id="258" name="Picture 4" descr=""/>
            <p:cNvPicPr/>
            <p:nvPr/>
          </p:nvPicPr>
          <p:blipFill>
            <a:blip r:embed="rId1"/>
            <a:stretch/>
          </p:blipFill>
          <p:spPr>
            <a:xfrm>
              <a:off x="1371600" y="1908000"/>
              <a:ext cx="63993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5" descr=""/>
            <p:cNvPicPr/>
            <p:nvPr/>
          </p:nvPicPr>
          <p:blipFill>
            <a:blip r:embed="rId2"/>
            <a:stretch/>
          </p:blipFill>
          <p:spPr>
            <a:xfrm>
              <a:off x="1341360" y="3241440"/>
              <a:ext cx="6435720" cy="30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" descr=""/>
            <p:cNvPicPr/>
            <p:nvPr/>
          </p:nvPicPr>
          <p:blipFill>
            <a:blip r:embed="rId3"/>
            <a:stretch/>
          </p:blipFill>
          <p:spPr>
            <a:xfrm>
              <a:off x="7632720" y="1920600"/>
              <a:ext cx="171360" cy="134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3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gan Compan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EDE2-F843-4321-B13D-B6F1FE6CEC3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Statement Example 3 –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gan Company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993600" y="2801880"/>
            <a:ext cx="7155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2419-9975-4780-8DFE-DE7F1C7BC99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repetition structure (loop) to repeatedly process program instruction(s) until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test or postt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lowchart symbol is repetition/selection diamo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loops have a condition and a bo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ntinel value may be entered by user to end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iming read: input instruction above a pre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unters and accumulators within loops used to calculate subtotals, totals, and avera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595C-5C19-4EED-A830-A0838D1D33B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the Repetition Structure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, test and verify the Professor Krelina progra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y the program created in Lab 7.2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hould allow user to enter four project scores and two test scores on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7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52EE-EC06-47A9-8610-9031E59BB14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Counters and Accumulato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unter-Controlled Pre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re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CB62-290A-43D3-8F3F-9A3EE676D7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the Repetition 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etition stru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repeatedly processes (a) program instruction(s) until a condition is m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called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etest loop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(also called top-drive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dition evaluated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before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ar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may never b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osttest loop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(also called bottom-drive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ndition evaluated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after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ar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within loop are always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6337080" y="322740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839640" y="2997360"/>
            <a:ext cx="233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ost common 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C074-B23D-4EB6-ABCB-E74F8A02E7F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every problem requires a loop in its solu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loops have a condition and a bo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op condition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s the number of times instructions within loop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 pretest loops, condition appears at the beginning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ust result in true or false value on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9F4C-02FA-4737-9EA3-FB7B6AA616C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90720" y="2263680"/>
            <a:ext cx="71625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E7D6-D68D-4232-BAC1-A83F059A735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6784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E214-3F2A-428A-AF84-EBEA03CD441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e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31720" y="2209680"/>
            <a:ext cx="807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01T11:46:38Z</dcterms:modified>
  <cp:revision>503</cp:revision>
  <dc:subject/>
  <dc:title>Chapter 7</dc:title>
</cp:coreProperties>
</file>