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6.png" ContentType="image/png"/>
  <Override PartName="/ppt/media/image30.wmf" ContentType="image/x-wmf"/>
  <Override PartName="/ppt/media/image45.png" ContentType="image/png"/>
  <Override PartName="/ppt/media/image28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6.png" ContentType="image/png"/>
  <Override PartName="/ppt/media/image6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A59A-8DC7-45D6-A42A-55C805A1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5FF-5BE0-420D-97D4-7B01FAA8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9A4-20AB-49DF-BC3C-A31503397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09A-2AFC-45A0-9311-5AF1D02BD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74D-74D6-497B-863E-D5A87F075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04CF-72E4-417C-A231-47DE22046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8E4C-5D73-485D-957D-571F5DB9B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835B-609A-4384-B7D8-15BBBDD71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EA76-88CE-46D8-923B-0067C9006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55BB-0F92-4574-BC39-BCC9B803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07F85-E209-4149-B137-164B123E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9AB58-A583-4BD6-82B8-791EFC54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2C24D-D604-4E9B-847B-E0C940FF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7EE51-A9DB-4372-86A0-A83B027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8E479-15D9-43A6-8242-34FF6D98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3D1DA-B9D3-4F6D-B22F-AD8B8DB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0C61-7341-4762-AB2F-CADBEC3221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CA4E-66B8-4640-BCBC-6C7D7A6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DEF1-02A2-4BBF-BCA4-0648F3B9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9E656-4643-4713-B6B1-1F4CAB7C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5C7D0-8378-46CD-9EDB-93C7B854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949E5-231F-4A42-B9FF-B9DE4E6B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4A64-15DA-4497-A068-12FE0A99B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D00AA-A8C4-48C8-95E2-7676BD3C3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0CF6-A3EB-4F9B-BB08-071EB4C56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7FAE-35DD-4CA1-AE0F-A09F82608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670A-17B6-4AC6-8D22-B5D88B291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1F11-7791-4862-88F9-95A96E897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256E-EA38-4C1E-8B10-46EB81BA7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60C0-BE27-4780-8310-7F28CD52D9E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11F0-8C53-4545-A7BE-83339D838D3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7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The Repetition Structur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A08-24A3-48F2-A324-A5CDE19E9E5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re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939960" y="2084400"/>
            <a:ext cx="72626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3FFF-7842-43E5-921E-13AB7C7C56E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1371600" y="914400"/>
            <a:ext cx="6660720" cy="5333760"/>
            <a:chOff x="1371600" y="914400"/>
            <a:chExt cx="6660720" cy="5333760"/>
          </a:xfrm>
        </p:grpSpPr>
        <p:pic>
          <p:nvPicPr>
            <p:cNvPr id="131" name="Picture 4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5631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"/>
            <p:cNvPicPr/>
            <p:nvPr/>
          </p:nvPicPr>
          <p:blipFill>
            <a:blip r:embed="rId2"/>
            <a:stretch/>
          </p:blipFill>
          <p:spPr>
            <a:xfrm>
              <a:off x="1387440" y="2145240"/>
              <a:ext cx="65311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"/>
            <p:cNvPicPr/>
            <p:nvPr/>
          </p:nvPicPr>
          <p:blipFill>
            <a:blip r:embed="rId3"/>
            <a:stretch/>
          </p:blipFill>
          <p:spPr>
            <a:xfrm>
              <a:off x="1387440" y="3376080"/>
              <a:ext cx="65311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"/>
            <p:cNvPicPr/>
            <p:nvPr/>
          </p:nvPicPr>
          <p:blipFill>
            <a:blip r:embed="rId4"/>
            <a:stretch/>
          </p:blipFill>
          <p:spPr>
            <a:xfrm>
              <a:off x="1387440" y="4754160"/>
              <a:ext cx="653112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8"/>
            <p:cNvSpPr/>
            <p:nvPr/>
          </p:nvSpPr>
          <p:spPr>
            <a:xfrm>
              <a:off x="7894080" y="2076840"/>
              <a:ext cx="138240" cy="389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2"/>
          <p:cNvSpPr/>
          <p:nvPr/>
        </p:nvSpPr>
        <p:spPr>
          <a:xfrm>
            <a:off x="304920" y="763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re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F88A-0B28-4ABC-AADD-E83CB94BC7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58680" y="1951200"/>
            <a:ext cx="72266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6E9-0DAB-4BA4-AD09-86ED823F581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976320" y="2525760"/>
            <a:ext cx="7191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F6B-D8DE-4A66-B9DC-60C59F513B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 Example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’Donnell Incorporated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58680" y="2438280"/>
            <a:ext cx="722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1178-A7AE-468E-97DB-C6E5DC0154C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80880" y="1650960"/>
            <a:ext cx="7226280" cy="3987720"/>
          </a:xfrm>
          <a:prstGeom prst="rect">
            <a:avLst/>
          </a:prstGeom>
          <a:ln w="0">
            <a:noFill/>
          </a:ln>
        </p:spPr>
      </p:pic>
      <p:sp>
        <p:nvSpPr>
          <p:cNvPr id="152" name="Line 6"/>
          <p:cNvSpPr/>
          <p:nvPr/>
        </p:nvSpPr>
        <p:spPr>
          <a:xfrm flipH="1" flipV="1">
            <a:off x="5714640" y="4724280"/>
            <a:ext cx="716040" cy="34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553080" y="5029200"/>
            <a:ext cx="230184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getting this statement turns loop into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dles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inite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 Example – O’Donnell Incorporated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BC4F-A89A-4327-85CE-D86F4B9150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34880" y="2362320"/>
            <a:ext cx="8328240" cy="2209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 Example – O’Donnell Incorporated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C70E-63F7-438E-A361-9D5D805314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Counters and Accumulato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unter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ariable used for counting someth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number of employees paid in a wee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ccumulator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ariable used for accumula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total dollar amount of a week’s payro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itializing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igning a beginning value to counter or accumul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ically zer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Updat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crement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dding a number to counter or accumul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FC7F-BD2A-4264-B3CA-99316A873F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58680" y="2689200"/>
            <a:ext cx="7226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1462-DFC7-4E8D-8D47-434329D029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828800" y="1185840"/>
            <a:ext cx="5562720" cy="5138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A430-5FA6-45A7-9010-5C94F94D88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repetition structure in pseudo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repetition structure in a flowchar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e a pretest loop using the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itialize and update counters and accumula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e a pretest loop using the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A474-9918-4A05-981A-B19A7A8E2A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1738440" y="1295280"/>
            <a:ext cx="5728680" cy="4953240"/>
            <a:chOff x="1738440" y="1295280"/>
            <a:chExt cx="5728680" cy="4953240"/>
          </a:xfrm>
        </p:grpSpPr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1749960" y="1317240"/>
              <a:ext cx="560736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"/>
            <p:cNvPicPr/>
            <p:nvPr/>
          </p:nvPicPr>
          <p:blipFill>
            <a:blip r:embed="rId2"/>
            <a:stretch/>
          </p:blipFill>
          <p:spPr>
            <a:xfrm>
              <a:off x="1738440" y="2473200"/>
              <a:ext cx="56073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"/>
            <p:cNvPicPr/>
            <p:nvPr/>
          </p:nvPicPr>
          <p:blipFill>
            <a:blip r:embed="rId3"/>
            <a:stretch/>
          </p:blipFill>
          <p:spPr>
            <a:xfrm>
              <a:off x="1738440" y="3623040"/>
              <a:ext cx="560736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1738440" y="4892400"/>
              <a:ext cx="5607360" cy="13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10"/>
            <p:cNvSpPr/>
            <p:nvPr/>
          </p:nvSpPr>
          <p:spPr>
            <a:xfrm>
              <a:off x="7343280" y="1295280"/>
              <a:ext cx="123840" cy="76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6C63-51E1-407D-A1FC-AB48E402CE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3911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A6B-6061-4D72-98D1-34B46315F0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Pretes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previous programs, user controls loop termination by entering a sentinel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can also control the termination of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ically, done using a cou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unter-controlled loop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xample: Jasper Music Company progra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5EA-EB09-48A4-8914-77036BAD154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Loop Example – Jasper Music Compan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101600" y="1658880"/>
            <a:ext cx="6939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32DA-D959-43C7-AE14-27A761E7A5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676520" y="1308240"/>
            <a:ext cx="5597280" cy="4787280"/>
            <a:chOff x="1676520" y="1308240"/>
            <a:chExt cx="5597280" cy="4787280"/>
          </a:xfrm>
        </p:grpSpPr>
        <p:pic>
          <p:nvPicPr>
            <p:cNvPr id="195" name="Picture 4" descr=""/>
            <p:cNvPicPr/>
            <p:nvPr/>
          </p:nvPicPr>
          <p:blipFill>
            <a:blip r:embed="rId1"/>
            <a:stretch/>
          </p:blipFill>
          <p:spPr>
            <a:xfrm>
              <a:off x="1676520" y="1381680"/>
              <a:ext cx="550800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"/>
            <p:cNvPicPr/>
            <p:nvPr/>
          </p:nvPicPr>
          <p:blipFill>
            <a:blip r:embed="rId2"/>
            <a:stretch/>
          </p:blipFill>
          <p:spPr>
            <a:xfrm>
              <a:off x="1690920" y="2385360"/>
              <a:ext cx="54770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6" descr=""/>
            <p:cNvPicPr/>
            <p:nvPr/>
          </p:nvPicPr>
          <p:blipFill>
            <a:blip r:embed="rId3"/>
            <a:stretch/>
          </p:blipFill>
          <p:spPr>
            <a:xfrm>
              <a:off x="1707120" y="3546000"/>
              <a:ext cx="544608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4"/>
            <a:stretch/>
          </p:blipFill>
          <p:spPr>
            <a:xfrm>
              <a:off x="1690920" y="4802760"/>
              <a:ext cx="547848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8"/>
            <p:cNvSpPr/>
            <p:nvPr/>
          </p:nvSpPr>
          <p:spPr>
            <a:xfrm>
              <a:off x="7144200" y="1308240"/>
              <a:ext cx="129600" cy="459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Loop Example – Jasper Music Compan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721-C8A5-4566-86D3-D622E195D5A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Loop Example – Jasper Music Compan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76320" y="2895480"/>
            <a:ext cx="7191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5DDD-DCD0-4BBF-8100-D098DFD908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1295280" y="1359000"/>
            <a:ext cx="6477120" cy="5015880"/>
            <a:chOff x="1295280" y="1359000"/>
            <a:chExt cx="6477120" cy="501588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1371600" y="1473120"/>
              <a:ext cx="6400800" cy="49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5"/>
            <p:cNvSpPr/>
            <p:nvPr/>
          </p:nvSpPr>
          <p:spPr>
            <a:xfrm>
              <a:off x="1295280" y="1359000"/>
              <a:ext cx="114300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584-9A14-4C22-9CDA-DBCC187FCD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98520" y="1143000"/>
            <a:ext cx="6550200" cy="5116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533520" y="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B65F-B97E-4875-AAD5-6C00954237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828800" y="1042920"/>
            <a:ext cx="5410080" cy="53578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533520" y="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683-524D-496C-9325-26EE567841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1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lmes Suppl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976320" y="1943280"/>
            <a:ext cx="71913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950-A345-45AF-A705-C355F5ED2E5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Repetition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e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A75B-2328-4934-9AEE-7AE27FDEBCA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9"/>
          <p:cNvGrpSpPr/>
          <p:nvPr/>
        </p:nvGrpSpPr>
        <p:grpSpPr>
          <a:xfrm>
            <a:off x="1793880" y="1219320"/>
            <a:ext cx="5444640" cy="5028840"/>
            <a:chOff x="1793880" y="1219320"/>
            <a:chExt cx="5444640" cy="5028840"/>
          </a:xfrm>
        </p:grpSpPr>
        <p:pic>
          <p:nvPicPr>
            <p:cNvPr id="226" name="Picture 4" descr=""/>
            <p:cNvPicPr/>
            <p:nvPr/>
          </p:nvPicPr>
          <p:blipFill>
            <a:blip r:embed="rId1"/>
            <a:stretch/>
          </p:blipFill>
          <p:spPr>
            <a:xfrm>
              <a:off x="1793880" y="1219320"/>
              <a:ext cx="52966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5" descr=""/>
            <p:cNvPicPr/>
            <p:nvPr/>
          </p:nvPicPr>
          <p:blipFill>
            <a:blip r:embed="rId2"/>
            <a:stretch/>
          </p:blipFill>
          <p:spPr>
            <a:xfrm>
              <a:off x="1822320" y="2287800"/>
              <a:ext cx="523836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6" descr=""/>
            <p:cNvPicPr/>
            <p:nvPr/>
          </p:nvPicPr>
          <p:blipFill>
            <a:blip r:embed="rId3"/>
            <a:stretch/>
          </p:blipFill>
          <p:spPr>
            <a:xfrm>
              <a:off x="1807920" y="3492720"/>
              <a:ext cx="526824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1807920" y="4867920"/>
              <a:ext cx="5268240" cy="13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8"/>
            <p:cNvSpPr/>
            <p:nvPr/>
          </p:nvSpPr>
          <p:spPr>
            <a:xfrm>
              <a:off x="7051680" y="1281960"/>
              <a:ext cx="186840" cy="471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1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lmes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9E4-E61F-498A-8B91-CED113144A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1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lmes Suppl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993600" y="2803680"/>
            <a:ext cx="71550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2E0-E5F6-4B5A-959E-CE98606726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2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lfax Sales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831960" y="1725480"/>
            <a:ext cx="74786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268-B81D-4DEC-853B-99163107F8D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1582560" y="1143000"/>
            <a:ext cx="6037200" cy="5257440"/>
            <a:chOff x="1582560" y="1143000"/>
            <a:chExt cx="6037200" cy="5257440"/>
          </a:xfrm>
        </p:grpSpPr>
        <p:pic>
          <p:nvPicPr>
            <p:cNvPr id="243" name="Picture 6" descr=""/>
            <p:cNvPicPr/>
            <p:nvPr/>
          </p:nvPicPr>
          <p:blipFill>
            <a:blip r:embed="rId1"/>
            <a:stretch/>
          </p:blipFill>
          <p:spPr>
            <a:xfrm>
              <a:off x="1582560" y="1143000"/>
              <a:ext cx="600660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7" descr=""/>
            <p:cNvPicPr/>
            <p:nvPr/>
          </p:nvPicPr>
          <p:blipFill>
            <a:blip r:embed="rId2"/>
            <a:stretch/>
          </p:blipFill>
          <p:spPr>
            <a:xfrm>
              <a:off x="1582560" y="2433960"/>
              <a:ext cx="6006600" cy="39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"/>
            <p:cNvPicPr/>
            <p:nvPr/>
          </p:nvPicPr>
          <p:blipFill>
            <a:blip r:embed="rId3"/>
            <a:stretch/>
          </p:blipFill>
          <p:spPr>
            <a:xfrm>
              <a:off x="7427520" y="1153800"/>
              <a:ext cx="192240" cy="132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2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lfax Sales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29D7-42C3-4CD4-8E9F-D6134E54CAD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2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lfax Sales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976320" y="2798640"/>
            <a:ext cx="7191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39D-05A3-4554-85D2-9A0855B11B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3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gan Compan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447920" y="1486080"/>
            <a:ext cx="62481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9270-1B68-41CA-8942-5EC42718705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1341360" y="1908000"/>
            <a:ext cx="6462720" cy="4340160"/>
            <a:chOff x="1341360" y="1908000"/>
            <a:chExt cx="6462720" cy="4340160"/>
          </a:xfrm>
        </p:grpSpPr>
        <p:pic>
          <p:nvPicPr>
            <p:cNvPr id="258" name="Picture 4" descr=""/>
            <p:cNvPicPr/>
            <p:nvPr/>
          </p:nvPicPr>
          <p:blipFill>
            <a:blip r:embed="rId1"/>
            <a:stretch/>
          </p:blipFill>
          <p:spPr>
            <a:xfrm>
              <a:off x="1371600" y="1908000"/>
              <a:ext cx="63993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5" descr=""/>
            <p:cNvPicPr/>
            <p:nvPr/>
          </p:nvPicPr>
          <p:blipFill>
            <a:blip r:embed="rId2"/>
            <a:stretch/>
          </p:blipFill>
          <p:spPr>
            <a:xfrm>
              <a:off x="1341360" y="3241440"/>
              <a:ext cx="6435720" cy="30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" descr=""/>
            <p:cNvPicPr/>
            <p:nvPr/>
          </p:nvPicPr>
          <p:blipFill>
            <a:blip r:embed="rId3"/>
            <a:stretch/>
          </p:blipFill>
          <p:spPr>
            <a:xfrm>
              <a:off x="7632720" y="1920600"/>
              <a:ext cx="171360" cy="13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3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gan Compan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7570-2E11-4EA9-B8DD-A27DDC3E5C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3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gan Compan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993600" y="2801880"/>
            <a:ext cx="7155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D3F-3980-4159-A389-5D43A5494A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repetition structure (loop) to repeatedly process program instruction(s) until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test or postt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lowchart symbol is repetition/selection diamo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loops have a condition and a bo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ntinel value may be entered by user to end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ming read: input instruction above a pre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unters and accumulators within loops used to calculate subtotals, totals, and aver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7919-30B2-4154-ACE3-F248FA615E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the Repetition Structure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, test and verify the Professor Krelina progra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y the program created in Lab 7.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hould allow user to enter four project scores and two test scores on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031F-5E05-48A8-ADD3-4791196562F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Counters and Accumula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unter-Controlled Pre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B5DE-3A15-4DCB-821F-1125C6AD3B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Repetition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etition stru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repeatedly processes (a) program instruction(s) until a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etest loop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(also called top-drive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dition evaluated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before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ar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may never b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osttest loop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(also called bottom-drive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dition evaluated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after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ar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within loop are always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6337080" y="32274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39640" y="299736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st common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4251-4E95-4894-9030-31F9348BBC4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every problem requires a loop in its solu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loops have a condition and a bo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op condition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s the number of times instructions within loop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 pretest loops, condition appears at the beginn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ust result in true or false value on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3C1-8488-4928-BD26-8066D606AF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90720" y="2263680"/>
            <a:ext cx="71625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F894-453B-46B1-BD01-A8301DC5C1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5F1D-BC79-43B4-BE70-6FFF5C7725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31720" y="2209680"/>
            <a:ext cx="807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01T11:46:38Z</dcterms:modified>
  <cp:revision>503</cp:revision>
  <dc:subject/>
  <dc:title>Chapter 7</dc:title>
</cp:coreProperties>
</file>