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4.wmf" ContentType="image/x-wmf"/>
  <Override PartName="/ppt/media/image3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49BB-DF32-4A47-826D-CF41A5ECF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5183-8ED6-477A-81D3-2823A342C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E523-D1DC-47B5-8650-63D22FBF0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E957-9021-4DF2-B7CD-73772D972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618F-AF0A-4D09-9003-4D3E36EDD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0D48-C3C0-4E04-A620-15DB0030E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94FB9-A758-4818-BD1F-690A5B347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254C-14A0-4474-9970-10CAC7184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9281F-AEAA-48BA-B975-67B2E5416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B46E9-1372-4B72-8BEB-8B20C6F9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D2068-BE9B-4C6E-B8AE-8861123A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2464E-7BA0-46E5-AB34-E2F2BC90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5E835-D7D3-4909-87B8-08D6638D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D2BC1-AD46-4CF3-A2AD-88B6DE9C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E5B62-7E7C-4853-A171-FADF72E6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29223-6125-4EBB-B863-A9104134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0314-70ED-47AB-8297-CF10E5DBD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447CC-80DF-41B8-9A0F-00D85FB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9BEB5-5831-410B-B699-01FF608D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E58EA-6654-4889-8A6E-1BCAF980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DE68D-E330-47E0-89A0-02A62038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94865-DA39-4D49-AAFC-E397D740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2B75A-34D9-4BBC-AA00-7FA6FDEC9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A8AE-B133-46BB-968F-FA50CDE0B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A04D2-F02D-4957-AAAA-76C9E7B08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D2D2E-DE83-4FAB-AB8B-A5BE5A795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7323-F131-48D3-AA69-209F2CD2D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019A-C2F3-44BE-AE58-3BE91AB31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A86A-E003-4BA5-AFB8-31771859C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599F-2F89-4C5B-AB90-4F9CC81615E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Linux+ Guide to Linux Certification, Secon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1F3B-00A7-496F-BFD7-A2D3B9C369F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An Introduction to Programming with C++</a:t>
            </a:r>
            <a:br>
              <a:rPr sz="4400"/>
            </a:b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if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8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More on the Repetition Structure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B9CF-D079-4EA5-A851-E105C7FB866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ding the Posttest Loo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he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whil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 or the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 to code a pretest loop in C++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he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do whil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 to code a posttest loop in C++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loop condition must be a Boolean express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n contain variables, constants, functions, and arithmetic/comparison/logical operator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4B4E-142F-4F02-AF16-4699ADA5F5C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1447920" y="685800"/>
            <a:ext cx="6247800" cy="5603400"/>
            <a:chOff x="1447920" y="685800"/>
            <a:chExt cx="6247800" cy="5603400"/>
          </a:xfrm>
        </p:grpSpPr>
        <p:pic>
          <p:nvPicPr>
            <p:cNvPr id="133" name="Picture 5" descr=""/>
            <p:cNvPicPr/>
            <p:nvPr/>
          </p:nvPicPr>
          <p:blipFill>
            <a:blip r:embed="rId1"/>
            <a:stretch/>
          </p:blipFill>
          <p:spPr>
            <a:xfrm>
              <a:off x="1447920" y="765360"/>
              <a:ext cx="6087600" cy="55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6"/>
            <p:cNvSpPr/>
            <p:nvPr/>
          </p:nvSpPr>
          <p:spPr>
            <a:xfrm>
              <a:off x="7215120" y="685800"/>
              <a:ext cx="480600" cy="66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ding the Posttest Loop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D779-9BF6-4A51-918B-C4FB305EA49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osttest Loop Example –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’Donnell Incorporated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blem descrip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 January of each year, O’Donnell Incorporated pays a 10% bonus to each of its salespeop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onus based on amount of sales made by salesperson during previous yea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roll clerk wants a program that calculates and displays each salesperson’s bonus amou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46AC-17F5-4549-833B-D6102CC54F7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181160" y="1117440"/>
            <a:ext cx="6743520" cy="5207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osttest Loop Example – O’Donnell Incorporated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72E7-378F-4599-B8E8-790DD49B0ED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993600" y="2629080"/>
            <a:ext cx="7155000" cy="1942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osttest Loop Example –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’Donnell Incorporated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352B-915C-4536-B9FB-69CD11F5708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sted Repetition Structur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nested repetition structur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, one loop (inner loop) is placed entirely within another loop (outer loop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sted Repetition Structur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243E-EB75-4AA6-9433-2DB401B5B30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830160" y="2209680"/>
            <a:ext cx="74757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B191-3AA6-4B39-AB93-D71F3EC03D6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sted Loop Example –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x Beauty Supply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x Beauty Supply divides its sales territory into two regions: Region 1 and Region 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les manager wants a program to enter the sales amounts for both regions, one region at a ti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gram should calculate the total amount sold in the current region, and display that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3B29-C1F5-48E5-AB69-AA22294621D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403360" y="1338120"/>
            <a:ext cx="4226040" cy="4910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30492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sted Loop Example –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x Beauty Supply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FF87-BC86-4C37-8A15-C65FE0F1B23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8"/>
          <p:cNvGrpSpPr/>
          <p:nvPr/>
        </p:nvGrpSpPr>
        <p:grpSpPr>
          <a:xfrm>
            <a:off x="2179800" y="1295280"/>
            <a:ext cx="4677840" cy="4908240"/>
            <a:chOff x="2179800" y="1295280"/>
            <a:chExt cx="4677840" cy="4908240"/>
          </a:xfrm>
        </p:grpSpPr>
        <p:pic>
          <p:nvPicPr>
            <p:cNvPr id="167" name="Picture 4" descr=""/>
            <p:cNvPicPr/>
            <p:nvPr/>
          </p:nvPicPr>
          <p:blipFill>
            <a:blip r:embed="rId1"/>
            <a:stretch/>
          </p:blipFill>
          <p:spPr>
            <a:xfrm>
              <a:off x="2179800" y="1295280"/>
              <a:ext cx="4641120" cy="140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5" descr=""/>
            <p:cNvPicPr/>
            <p:nvPr/>
          </p:nvPicPr>
          <p:blipFill>
            <a:blip r:embed="rId2"/>
            <a:stretch/>
          </p:blipFill>
          <p:spPr>
            <a:xfrm>
              <a:off x="2179800" y="2823480"/>
              <a:ext cx="4641120" cy="139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6" descr=""/>
            <p:cNvPicPr/>
            <p:nvPr/>
          </p:nvPicPr>
          <p:blipFill>
            <a:blip r:embed="rId3"/>
            <a:stretch/>
          </p:blipFill>
          <p:spPr>
            <a:xfrm>
              <a:off x="2193120" y="4362480"/>
              <a:ext cx="4614120" cy="184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7"/>
            <p:cNvSpPr/>
            <p:nvPr/>
          </p:nvSpPr>
          <p:spPr>
            <a:xfrm>
              <a:off x="6798960" y="2761200"/>
              <a:ext cx="58680" cy="11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Rectangle 2"/>
          <p:cNvSpPr/>
          <p:nvPr/>
        </p:nvSpPr>
        <p:spPr>
          <a:xfrm>
            <a:off x="30492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sted Loop Example –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x Beauty Supply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1279-4A11-411D-BFD8-2975AB07099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clude the posttest repetition structure in pseudocod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clude the posttest repetition structure in a flowchar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de a posttest loop using the C++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do whil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st repetition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2949-41D9-498C-A787-C91BF916547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722600" y="1312920"/>
            <a:ext cx="5897520" cy="2192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1204920" y="3587760"/>
            <a:ext cx="6796080" cy="2660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30492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sted Loop Example –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x Beauty Supply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BEEE-E6E9-4155-B852-BAACE314DC1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571760" y="1295280"/>
            <a:ext cx="5895720" cy="49514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30492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sted Loop Example –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x Beauty Supply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39F4-679C-4058-B03C-3C98CAB3928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repetition structure can be a pretest or posttest lo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 a pretest loop, the loop condition is evaluated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before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instructions in the loop body are proces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structions may never be process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or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statement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 a posttest loop, the loop condition is evaluated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instructions in the loop body are proces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structions are always processed at least onc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e the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do while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statemen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nest repetition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E7A7-4D2B-44CE-A062-03EFD3DB5FB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pplication Lesson: Using a Nested Repetition Structure in a C++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8.1: Stop and Analy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8.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reate a program that displays one or more multiplication tables for Mrs. Johnson stud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8.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dify program so it uses a posttest loop (instead of a pretest loop) to display the multiplication tab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8.4: Desk-Check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8.5: Debugging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B3E9-D6D7-45BD-9869-A7EB4993DD7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osttes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ding the Posttest Lo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sted Repetition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D06D-25ED-4AC1-AF8E-8ACEBA53508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osttest Loo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oops can be pretest or posttes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dition in a posttest loop is evaluated with each loop ite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valuation occurs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structions within loop are proces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lso called bottom-driven loop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DF33-200F-4D38-9837-57DD97127E4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osttest Loop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084320" y="1600200"/>
            <a:ext cx="6975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2548-2D4D-43D4-ADCD-FBB568CF1E7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lowcharting a Posttest Loo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lowcharts illustrate why loops are referred to as pretest and posttes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petition diamond appears at the top of a pretest loop, but at the bottom of a posttest loo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lowcharting a Posttest Loop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B528-3A20-4483-A79E-0BA0F305D3E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8"/>
          <p:cNvGrpSpPr/>
          <p:nvPr/>
        </p:nvGrpSpPr>
        <p:grpSpPr>
          <a:xfrm>
            <a:off x="1346040" y="2057400"/>
            <a:ext cx="6425640" cy="3504960"/>
            <a:chOff x="1346040" y="2057400"/>
            <a:chExt cx="6425640" cy="3504960"/>
          </a:xfrm>
        </p:grpSpPr>
        <p:pic>
          <p:nvPicPr>
            <p:cNvPr id="114" name="Picture 5" descr=""/>
            <p:cNvPicPr/>
            <p:nvPr/>
          </p:nvPicPr>
          <p:blipFill>
            <a:blip r:embed="rId1"/>
            <a:stretch/>
          </p:blipFill>
          <p:spPr>
            <a:xfrm>
              <a:off x="1346040" y="2057400"/>
              <a:ext cx="6368760" cy="29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"/>
            <p:cNvPicPr/>
            <p:nvPr/>
          </p:nvPicPr>
          <p:blipFill>
            <a:blip r:embed="rId2"/>
            <a:stretch/>
          </p:blipFill>
          <p:spPr>
            <a:xfrm>
              <a:off x="1364400" y="4953600"/>
              <a:ext cx="6407280" cy="60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38FE-2826-41A1-B9B8-AC93F3CB6DF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617840" y="739800"/>
            <a:ext cx="6002280" cy="5508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22860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lowcharting a Posttest Loop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9D59-A639-4B51-801C-63A0A0100D9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617840" y="1900080"/>
            <a:ext cx="6002280" cy="1052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1635120" y="3195720"/>
            <a:ext cx="5967360" cy="121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1635120" y="4719600"/>
            <a:ext cx="5967360" cy="1376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lowcharting a Posttest Loop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07-03-01T11:59:35Z</dcterms:modified>
  <cp:revision>466</cp:revision>
  <dc:subject/>
  <dc:title>Chapter 8</dc:title>
</cp:coreProperties>
</file>