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9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3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9F2C-256B-4E85-993C-B1DB1BC19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F8E3-385D-4C60-BC0B-F95155EBD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0B4-955D-4782-BFB7-7E95C23B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A55-98E2-43B0-8369-E1394643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562-D383-48DB-8F7D-15F6D860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0485-FC90-4384-83CF-62785EF2E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F3CA-B02F-4CB7-A5E5-E40B2029C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6F6B-0D51-4053-9982-FF5FA496B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1CD9-34A1-48E0-AA55-BAC5EB1F7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10B41-6DA6-493B-B16A-82ABF958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2002-A659-4CAB-838C-DDE7E79D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23B85-F138-4C2C-9CD2-10677AFE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03B8E-E7E3-4E4C-9A75-42FA6A75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09DD4-4B55-4942-A5FF-230345E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93A0-8E0D-4608-9A94-A29CCFEC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0754-5BAB-4A30-B30C-B47EEC59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0235-3B98-47D7-BFBE-DC6420C01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F8635-C356-4E9A-93BA-FF2481B2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CF74C-871B-4B01-98A6-A3C8AF1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A47AA-C71A-421D-AEFE-88ACC12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1A52A-FE2D-4E63-99F4-2C07E8C4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1971D-9854-4472-9F31-81702B01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F816-1384-44EA-927C-892FBFE21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2E1C-DF7B-4ECC-BD2B-F6F47C4C8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E10D-FB2A-4285-9447-A86882D31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57E2-73D7-43B6-9802-3960125CF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73EC-DCB5-4264-A23F-0FC8B355E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C93E-17EC-4B9A-9619-BA1869347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C5042-9461-4347-9091-5E0AD08A0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8C9D-AFAB-454D-9B15-024BF22FCD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2AF-F46C-415B-BB81-914AD7CBE78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More on the Repetition Structur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DEFE-7C5D-477A-B86C-226E53B43D5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ding the Post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or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retest loop 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 to code a posttest loop 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loop condition must be a Boolean express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ontain variables, constants, functions, and arithmetic/comparison/logical operato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659-95EA-459F-ABCA-40624D98F0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447920" y="685800"/>
            <a:ext cx="6247800" cy="5603400"/>
            <a:chOff x="1447920" y="685800"/>
            <a:chExt cx="6247800" cy="560340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1447920" y="765360"/>
              <a:ext cx="6087600" cy="55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6"/>
            <p:cNvSpPr/>
            <p:nvPr/>
          </p:nvSpPr>
          <p:spPr>
            <a:xfrm>
              <a:off x="7215120" y="685800"/>
              <a:ext cx="480600" cy="66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ding the Post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19A7-7584-4CE1-880B-3811A99432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 descrip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January of each year, O’Donnell Incorporated pays a 10% bonus to each of its salespeo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onus based on amount of sales made by salesperson during previous ye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clerk wants a program that calculates and displays each salesperson’s bonus am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8259-98F8-4D10-B5AC-E14415C2BF0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181160" y="1117440"/>
            <a:ext cx="6743520" cy="5207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O’Donnell Incorporated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947-BB08-4C45-96E7-78817B5ECBE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993600" y="2629080"/>
            <a:ext cx="7155000" cy="1942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’Donnell Incorporated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325C-CBD9-44E1-941F-DF6488EFA6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Repetition Struc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nested repetition stru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one loop (inner loop) is placed entirely within another loop (outer loo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Repetition Structur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3FEF-9146-41F9-A304-4DCF58FC9D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830160" y="2209680"/>
            <a:ext cx="74757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BB2-DB17-4447-99A9-B2339F625E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x Beauty Supply divides its sales territory into two regions: Region 1 and Region 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manager wants a program to enter the sales amounts for both regions, one region at a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 should calculate the total amount sold in the current region, and display that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9E7D-401D-4D30-B637-BF10B2C0E1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403360" y="1338120"/>
            <a:ext cx="4226040" cy="4910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FE9B-1D7A-45B5-8C6E-FD02A6BBD7B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2179800" y="1295280"/>
            <a:ext cx="4677840" cy="4908240"/>
            <a:chOff x="2179800" y="1295280"/>
            <a:chExt cx="4677840" cy="490824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2179800" y="1295280"/>
              <a:ext cx="4641120" cy="14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2179800" y="2823480"/>
              <a:ext cx="4641120" cy="139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" descr=""/>
            <p:cNvPicPr/>
            <p:nvPr/>
          </p:nvPicPr>
          <p:blipFill>
            <a:blip r:embed="rId3"/>
            <a:stretch/>
          </p:blipFill>
          <p:spPr>
            <a:xfrm>
              <a:off x="2193120" y="4362480"/>
              <a:ext cx="4614120" cy="18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7"/>
            <p:cNvSpPr/>
            <p:nvPr/>
          </p:nvSpPr>
          <p:spPr>
            <a:xfrm>
              <a:off x="6798960" y="2761200"/>
              <a:ext cx="58680" cy="11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7A92-3699-4BD0-975F-609610513A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posttest repetition structure in pseudo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lude the posttest repetition structure in a flowchar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e a posttest loop using the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st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302C-D0F6-4F12-9E77-B19DC226E6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722600" y="1312920"/>
            <a:ext cx="5897520" cy="2192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1204920" y="3587760"/>
            <a:ext cx="6796080" cy="2660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3D8-65DE-40E1-9628-AE9CF52A0EB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571760" y="1295280"/>
            <a:ext cx="5895720" cy="4951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30492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sted Loop Example –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x Beauty Supply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305-412E-41F1-9468-8E9EB1A8BD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repetition structure can be a pretest or post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 pretest loop, the loop condition is evaluate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instructions in the loop body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may never be process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or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stat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 posttest loop, the loop condition is evaluate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instructions in the loop body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structions are always processed at least on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do whil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nest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98CA-6A1C-4CAB-A9F4-CB62C1050A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a Nested Repetition Structure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a program that displays one or more multiplication tables for Mrs. Johnson stud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y program so it uses a posttest loop (instead of a pretest loop) to display the multiplication tab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8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6F1D-27EC-4A50-9514-C062C68D76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st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ding the Posttest Lo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sted Repetition Struct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D3E1-EBFB-46BF-A405-CB8CF7AB42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oops can be pretest or posttes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dition in a posttest loop is evaluated with each loop it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aluation occur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ructions within loop are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so called bottom-driven loop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E9CC-D7D4-47E0-B148-BC8F35B83B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osttest Loop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084320" y="1600200"/>
            <a:ext cx="69753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20C2-4E35-44C7-AA26-0A19F0CEED5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lowcharts illustrate why loops are referred to as pretest and posttest loo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etition diamond appears at the top of a pretest loop, but at the bottom of a posttest lo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4E23-F138-4D8E-A20F-D12F62E0D7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1346040" y="2057400"/>
            <a:ext cx="6425640" cy="3504960"/>
            <a:chOff x="1346040" y="2057400"/>
            <a:chExt cx="6425640" cy="3504960"/>
          </a:xfrm>
        </p:grpSpPr>
        <p:pic>
          <p:nvPicPr>
            <p:cNvPr id="114" name="Picture 5" descr=""/>
            <p:cNvPicPr/>
            <p:nvPr/>
          </p:nvPicPr>
          <p:blipFill>
            <a:blip r:embed="rId1"/>
            <a:stretch/>
          </p:blipFill>
          <p:spPr>
            <a:xfrm>
              <a:off x="1346040" y="2057400"/>
              <a:ext cx="6368760" cy="29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2"/>
            <a:stretch/>
          </p:blipFill>
          <p:spPr>
            <a:xfrm>
              <a:off x="1364400" y="4953600"/>
              <a:ext cx="640728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B44D-BFBA-4C3D-B613-F9C80E412D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17840" y="739800"/>
            <a:ext cx="6002280" cy="550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2286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A07-05AF-4C10-B28C-A37A6E210F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617840" y="1900080"/>
            <a:ext cx="6002280" cy="105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635120" y="3195720"/>
            <a:ext cx="5967360" cy="12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1635120" y="4719600"/>
            <a:ext cx="5967360" cy="137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lowcharting a Posttest Loop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01T11:59:35Z</dcterms:modified>
  <cp:revision>466</cp:revision>
  <dc:subject/>
  <dc:title>Chapter 8</dc:title>
</cp:coreProperties>
</file>