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ct" ContentType="image/x-pict"/>
  <Override PartName="/ppt/media/image22.png" ContentType="image/png"/>
  <Override PartName="/ppt/media/image9.pct" ContentType="image/x-pict"/>
  <Override PartName="/ppt/media/image13.pct" ContentType="image/x-pict"/>
  <Override PartName="/ppt/media/image25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4.pct" ContentType="image/x-pict"/>
  <Override PartName="/ppt/media/image27.pct" ContentType="image/x-pict"/>
  <Override PartName="/ppt/media/image24.pct" ContentType="image/x-pict"/>
  <Override PartName="/ppt/media/image15.png" ContentType="image/png"/>
  <Override PartName="/ppt/media/image23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21.pct" ContentType="image/x-pict"/>
  <Override PartName="/ppt/media/image19.pct" ContentType="image/x-pict"/>
  <Override PartName="/ppt/media/image17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D444-AC98-4ABE-9CE3-4DE2CD3C6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96B-6743-45F3-AD8C-919F753F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7B47-4C2F-425F-95B6-D3021D507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F0FF-36F8-4D3D-8336-EA787EDF2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A92E-5C75-4D3A-B91A-48E96C94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065-0AAE-403F-9814-A04405DF0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ED92-7EE3-4A8A-A163-EDB899A84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2EB3-A89E-4C51-89EA-45FAB56F7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3396-B7F7-4BEF-B896-04440C326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F3AC5-CF6A-404C-AF53-AAE875F33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636EE-8EAA-4C70-A351-B104482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757BD-358E-401A-9CEC-4052FC94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10FEF-AB19-4A57-80B4-B8523E8B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2CA73-81C6-4BB3-B365-B2307699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41273-EF8E-44F5-9266-54A675AA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A3E2F-3883-44B8-B819-73A4865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67CE0-443A-4A0C-B8E8-585DA0E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56BE-FD92-47DE-B410-511B5FA51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21D7-6D1F-456A-A9B1-B9B9DFB0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581EF-F7C0-41D1-A677-0EC33240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389E3-5B89-4B71-BF7D-1A8EA86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BB057-A696-4DDE-8D19-A3A1A817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475D0-E18B-4049-9459-68FEE968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ADFE6-F771-4F22-82ED-ECD9A200E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8F0B-D99A-4486-AF39-7D27F960B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F9DA8-D7C3-4358-ACFE-AB5FAD26D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393E-84C0-4E99-B24A-171020FA5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4110-4ECF-424C-848F-50C2E7C9F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6DBB-11E5-415C-981D-2F1C64C7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1105-B367-41D2-9E5F-869A5C38A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456-5A3C-4C18-BFC9-D6CBB38BEB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7557-855F-47F2-8232-CF28771BA1C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976320" y="2286000"/>
            <a:ext cx="7191360" cy="232236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3539-9D90-40F6-A5AE-198E25DF92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CF1E-8512-48A2-AFD3-ABED0863E2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76320" y="1625760"/>
            <a:ext cx="7191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357A-8F0C-44C3-939C-D079BF7887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976320" y="1460520"/>
            <a:ext cx="71913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394B-450D-4935-9544-289A74FF69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should initialize the random number generator in each program in which it is u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wise, it will generate the same series of numbers each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srand()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You must provide a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e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teger that represents the starting point for the random number generat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ually us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time()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returns current time as seconds elapsed since midnight January 1, 1970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A9AB-A63F-4155-BD73-03EAC05043A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796080" cy="506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533520" y="763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E253-4384-47A7-8A24-108849F580B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displays five random addition problems on the scre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fter displaying an addition problem, it allows user to enter the answer to the probl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checks whether the user’s answer is corr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rrect!”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orry, the sum is X”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ECE9-ED86-4BCF-BAF8-E6A4959EA3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958680" y="1295280"/>
            <a:ext cx="7226640" cy="5013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" y="763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E9E-006D-4785-8538-EFDA492635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600200" y="1141560"/>
            <a:ext cx="5791320" cy="5182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8600" y="76320"/>
            <a:ext cx="861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F14C-FD1A-4E56-9614-E6798F1695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76320" y="2602080"/>
            <a:ext cx="71913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258A-1461-4B2B-BAD2-964ADDE5AE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Program-Defined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reate your own value-returning function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gram-defined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definition is composed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h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bod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DD8-CB73-47CE-978E-DAC92E19162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se a number to a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e random numb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and invoke a function that returns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information,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5D92-F468-4462-8E01-A8658EC285A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Program-Defined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304920" y="1625760"/>
            <a:ext cx="8458200" cy="4749120"/>
            <a:chOff x="304920" y="1625760"/>
            <a:chExt cx="8458200" cy="474912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380880" y="1682640"/>
              <a:ext cx="8382240" cy="46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7"/>
            <p:cNvSpPr/>
            <p:nvPr/>
          </p:nvSpPr>
          <p:spPr>
            <a:xfrm>
              <a:off x="304920" y="1625760"/>
              <a:ext cx="17524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09E2-509F-4E2B-A932-D19FADF1F12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 Head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header: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first line in a function definition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es not end with a semicol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ot considered a C++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ins with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returnDataTy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xt comes the name of the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aming rules are the same as for naming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ame usually begins with a verb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has an optional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ists data type and name of formal paramet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Formal parameter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tore the information passed to the function when it is invok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2910-B0FC-479C-92C3-8C7B5A8E87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Information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tems passed to a function 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tual argu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a variable, named constant, literal constant, or keywo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You can pass a variable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(a copy of the value is passed), 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(the variable address is passed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22222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calcRectangleArea(2, 3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22222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calcRectangleArea(length, width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610200" y="3757680"/>
            <a:ext cx="1294560" cy="398880"/>
            <a:chOff x="610200" y="3757680"/>
            <a:chExt cx="1294560" cy="398880"/>
          </a:xfrm>
        </p:grpSpPr>
        <p:sp>
          <p:nvSpPr>
            <p:cNvPr id="178" name="Line 4"/>
            <p:cNvSpPr/>
            <p:nvPr/>
          </p:nvSpPr>
          <p:spPr>
            <a:xfrm>
              <a:off x="1523880" y="397512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610200" y="375768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efa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AutoShape 10"/>
          <p:cNvSpPr/>
          <p:nvPr/>
        </p:nvSpPr>
        <p:spPr>
          <a:xfrm>
            <a:off x="7149960" y="499104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237800" y="5194440"/>
            <a:ext cx="17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s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975-E6B1-47C1-9074-B344D787DAC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 Bod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bod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tains instructions the function follows to perform its assigned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ins with { and ends with }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last statement is usually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expression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presents the value the function returns to the statement that called 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statemen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erts computer that the function has completed its ta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ype of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expression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ust agree with th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returnDataType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pecified in function head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509-5532-4779-9EE7-AC70B9A32B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Function Prototyp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a function definition appears below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you must enter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prototyp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bov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otype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es function’s name, data type of return value and of each formal parame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lnSpc>
                <a:spcPct val="2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ually after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#includ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us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371600" y="3521160"/>
            <a:ext cx="6858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D2A9-3FC2-469A-A87E-FAA5358948B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the computer processes a statement containing a program-defined functio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locates the function’s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es values of actual arguments to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receives values and stores them in the memory locations listed in it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code is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turn value is returned to calling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B12-77A3-4A8F-950A-F4014D8908B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833480" y="685800"/>
            <a:ext cx="5253120" cy="5670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533520" y="763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FDF-B7DE-45ED-BA57-B1D284F2113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76320" y="2720880"/>
            <a:ext cx="7191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84E7-C5DD-4D29-8B9A-13D67AF1251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395360" y="1557360"/>
            <a:ext cx="643752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378080" y="3987720"/>
            <a:ext cx="6470640" cy="2032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378080" y="2514600"/>
            <a:ext cx="6470640" cy="205740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36E7-19D0-42B3-9F35-6D2D5F48A9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F138-4700-4B04-80F9-ED1248596E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rite a function prototyp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a variable’s scope and life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.NET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th::Pow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metho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e random integers in .NET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DA9D-9B4B-492E-AC8F-1FC41A1622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cope and Lifetime of a Variab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cop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cates where in the program it can be u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 or glob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Local variabl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are declared within a function or appear in a function’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parameterLis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Global variable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e declared outside of any function and remain in memory until program end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void using global variables in your progra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ifetim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ndicates how long it remains in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8D20-F09E-4B76-825C-3958585CDB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calculates and displays a 5% bonus amou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ased on the amount of sales entered by the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uses two value-returning func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etSales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calcBonus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DAF3-C9C9-41F9-97BF-A64619DC194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368360" y="1506600"/>
            <a:ext cx="69375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AFFE-5201-40F3-B981-98F0E9C557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400040" y="1089000"/>
            <a:ext cx="6448680" cy="5235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533520" y="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991-FBC5-4A4A-9ADC-E5926E88182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976320" y="2214720"/>
            <a:ext cx="7191360" cy="122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976320" y="3890880"/>
            <a:ext cx="7191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772-E483-4CA1-B77E-470910755C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440000" y="1676520"/>
            <a:ext cx="6470640" cy="2039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422360" y="3962520"/>
            <a:ext cx="6502320" cy="2065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1440000" y="1752480"/>
            <a:ext cx="6470640" cy="2048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6470640" cy="203220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287C-D114-462A-9665-F504DAB00A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84C1-BF6A-400F-BFEB-2E0AA5634F4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339920" y="1676520"/>
            <a:ext cx="6470640" cy="2023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1301760" y="3886200"/>
            <a:ext cx="6470640" cy="2201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C36-6890-4979-993D-AAA6AA84FE6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functions because the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mer to avoid duplicating code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s to be broken into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 value-returning or vo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pow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rand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re value-return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definition has a function header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ader specifies return data type, function name, and (optional)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parenthe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y default, variables are passed to a function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D5C-EBC7-4F58-BAC9-BB6628CAEC2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unction body contains instructions for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bra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ust include a function prototype for each function defined below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scope can be either local or global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icates where in a program a variable can be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multiple memory locations have same name, and it appears in a statement, the computer uses the position of the statement within the program to determine which memory location to u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0022-37DD-48C0-A562-35F7F0D166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sing a Number to a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ing Random Numb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Program-Defined Value-Returning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ing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C106-77F7-4551-BE1C-14C4108376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Value-Returning Function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2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a program to calculate and display the monthly payments of a loa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3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should allow user to enter interest rates either as a whole or as a decimal numb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4FAA-0741-4661-A487-644976347B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is a block of code that performs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C++ program contains at least one function: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ntain many mo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functions because the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mer to avoid duplicating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s to be broken into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 categorized in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F4B1-0C60-41D1-8F77-F0C6C5FCE3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alue-returning function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turns precisely one value after completing its assigned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ually returned to the statement that called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ypically, statement displays return value, uses it in a calculation, or assigns it to a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me value-returning functions are built into C++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getline()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toupper(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156E-3CBA-45E4-9CA4-12699EFC80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ising a Number to a Pow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pow( 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aise a number to a power and return result as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ub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numb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58680" y="2919240"/>
            <a:ext cx="72266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6A9-17AC-4CBF-8F07-9A7A3335E01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seudo-random number generat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duces a sequence of numbers that meet certain statistical requirements for random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s are chosen with equal probability from a finite set of nu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osen numbers are sufficiently random for practical purpo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rand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turns an integer greater than or equal to zero and less than or equal to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RAND_MAX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RAND_MAX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is always at least 32,767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2E2-DB54-4D84-B27C-15C78F5407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76320" y="2193840"/>
            <a:ext cx="7191360" cy="2835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>Course Technology</dc:creator>
  <dc:description/>
  <dc:language>en-US</dc:language>
  <cp:lastModifiedBy>CE</cp:lastModifiedBy>
  <dcterms:modified xsi:type="dcterms:W3CDTF">2007-03-06T12:48:41Z</dcterms:modified>
  <cp:revision>523</cp:revision>
  <dc:subject/>
  <dc:title>Chapter 9</dc:title>
</cp:coreProperties>
</file>