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ct" ContentType="image/x-pict"/>
  <Override PartName="/ppt/media/image22.png" ContentType="image/png"/>
  <Override PartName="/ppt/media/image9.pct" ContentType="image/x-pict"/>
  <Override PartName="/ppt/media/image13.pct" ContentType="image/x-pict"/>
  <Override PartName="/ppt/media/image25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4.pct" ContentType="image/x-pict"/>
  <Override PartName="/ppt/media/image27.pct" ContentType="image/x-pict"/>
  <Override PartName="/ppt/media/image24.pct" ContentType="image/x-pict"/>
  <Override PartName="/ppt/media/image15.png" ContentType="image/png"/>
  <Override PartName="/ppt/media/image23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media/image21.pct" ContentType="image/x-pict"/>
  <Override PartName="/ppt/media/image19.pct" ContentType="image/x-pict"/>
  <Override PartName="/ppt/media/image17.png" ContentType="image/png"/>
  <Override PartName="/ppt/media/image20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5.png" ContentType="image/png"/>
  <Override PartName="/ppt/media/image1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42DB-F6BC-4646-A0E0-F0854A87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6179-43BD-40F5-BC61-0FDFEE654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2877-B60D-431A-B5D1-0DED53D9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FDD-2385-4132-8074-41742AFA6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6C7C-26B4-43E9-BDE8-4679216E2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B56-B73D-45A7-B2EE-E7BA7DBC5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ADCF-8B04-4123-BD08-5D9F6E79F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8313-52E2-4B18-8C17-1A2932E80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88A8-E43E-49B0-859E-2192F8F0C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9796-F8A4-41AF-8B4F-54BC1C5EB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7BA0-B80A-4CFF-8334-4101AD4D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8F30B-94B2-4285-B501-3FA8D479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E5FA6-28F4-4F6D-8454-57A1809D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03241-C66D-4481-9216-771017E6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471F3-C109-451F-8599-B0D5F43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8F094-69E5-4373-9624-54A29898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DC9D0-35B8-496C-8261-9D80A7E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A8852-062C-4176-A399-FFD436EB6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9412C-8135-4B3E-9812-270DC123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F3715-8FB5-4F95-BAF5-52171B6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F6CBD-B048-4786-8FEF-A366E0AC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3769A-2673-4699-B03E-F1065DD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91D8-1A80-4590-84B5-04971CCB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5F341-B0A6-49E7-AC14-3F07FC7B1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7D591-E2E5-4811-B0F0-FF341D854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805A-FB16-4F1B-8B54-10AA1F2C3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46A9-628F-401B-8D5C-3C6297FFA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8338-DED3-4903-B985-68BEFFFD4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CC3F-5E8D-4932-9608-C3D626FF9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9B17-E7E5-47D3-B5A6-937BC0C43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AEAD-CC7A-45F3-AF3C-9AF8974C4F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36E6-42BD-451A-B64D-9E1DAB778ED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976320" y="2286000"/>
            <a:ext cx="7191360" cy="2322360"/>
          </a:xfrm>
          <a:prstGeom prst="rect">
            <a:avLst/>
          </a:prstGeom>
          <a:ln w="0">
            <a:noFill/>
          </a:ln>
        </p:spPr>
      </p:pic>
      <p:sp>
        <p:nvSpPr>
          <p:cNvPr id="12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DF5B-0D17-46FF-99D5-730942DE0BD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1A27-972A-44B8-9B96-5810A4614B4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976320" y="1625760"/>
            <a:ext cx="7191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99F-785D-47F9-A721-918EE84A66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976320" y="1460520"/>
            <a:ext cx="71913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3A59-7294-45E1-A2DD-E329FEF58F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should initialize the random number generator in each program in which it is u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wise, it will generate the same series of numbers each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222222"/>
                </a:solidFill>
                <a:latin typeface="Courier New"/>
              </a:rPr>
              <a:t>srand()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You must provide a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e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teger that represents the starting point for the random number generato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ually use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time()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returns current time as seconds elapsed since midnight January 1, 1970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C578-09EA-46E9-83A4-07C78044C4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143000" y="1122480"/>
            <a:ext cx="6796080" cy="5060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533520" y="763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5105-D264-4D85-81F2-618918BEE11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displays five random addition problems on the scree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fter displaying an addition problem, it allows user to enter the answer to the probl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checks whether the user’s answer is corr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rrect!”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orry, the sum is X”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2423-C6C9-4776-85F4-6077E8A5E8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958680" y="1295280"/>
            <a:ext cx="7226640" cy="5013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28600" y="763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8F2-36C8-4588-B273-D2006052D9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600200" y="1141560"/>
            <a:ext cx="5791320" cy="5182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28600" y="76320"/>
            <a:ext cx="86104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1CD-394C-4837-A54C-14ECDB868F7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ndom Numbers Program: Displaying Random Addition Probl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76320" y="2602080"/>
            <a:ext cx="71913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6D13-66C3-46E2-8239-5FB447EED9A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Program-Defined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create your own value-returning function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gram-defined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unction definition is composed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h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bod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2D06-7CC3-45A0-A855-070C361C139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se a number to a pow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e random numb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e and invoke a function that returns a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information,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E335-6223-4F94-AA5B-49F6D571033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Program-Defined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alue-Returning Func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66" name="Group 8"/>
          <p:cNvGrpSpPr/>
          <p:nvPr/>
        </p:nvGrpSpPr>
        <p:grpSpPr>
          <a:xfrm>
            <a:off x="304920" y="1625760"/>
            <a:ext cx="8458200" cy="4749120"/>
            <a:chOff x="304920" y="1625760"/>
            <a:chExt cx="8458200" cy="474912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380880" y="1682640"/>
              <a:ext cx="8382240" cy="46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7"/>
            <p:cNvSpPr/>
            <p:nvPr/>
          </p:nvSpPr>
          <p:spPr>
            <a:xfrm>
              <a:off x="304920" y="1625760"/>
              <a:ext cx="1752480" cy="60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524A-BA21-48FB-989A-E5FDB90729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 Head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nction header: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first line in a function definition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es not end with a semicol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ot considered a C++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ins with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returnDataTyp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xt comes the name of the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aming rules are the same as for naming variabl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ame usually begins with a verb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98000"/>
              </a:lnSpc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so has an optional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arameterLis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losed in 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ists data type and name of formal paramet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lnSpc>
                <a:spcPct val="98000"/>
              </a:lnSpc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Formal parameter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tore the information passed to the function when it is invok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9F4A-16E2-46A6-BD9D-348C72BDBCD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Information to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tems passed to a function ar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ctual argu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a variable, named constant, literal constant, or keywo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You can pass a variable: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(a copy of the value is passed), o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(the variable address is passed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222222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calcRectangleArea(2, 3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222222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calcRectangleArea(length, width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610200" y="3757680"/>
            <a:ext cx="1294560" cy="398880"/>
            <a:chOff x="610200" y="3757680"/>
            <a:chExt cx="1294560" cy="398880"/>
          </a:xfrm>
        </p:grpSpPr>
        <p:sp>
          <p:nvSpPr>
            <p:cNvPr id="178" name="Line 4"/>
            <p:cNvSpPr/>
            <p:nvPr/>
          </p:nvSpPr>
          <p:spPr>
            <a:xfrm>
              <a:off x="1523880" y="397512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Text Box 5"/>
            <p:cNvSpPr/>
            <p:nvPr/>
          </p:nvSpPr>
          <p:spPr>
            <a:xfrm>
              <a:off x="610200" y="3757680"/>
              <a:ext cx="94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efaul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AutoShape 10"/>
          <p:cNvSpPr/>
          <p:nvPr/>
        </p:nvSpPr>
        <p:spPr>
          <a:xfrm>
            <a:off x="7149960" y="4991040"/>
            <a:ext cx="76320" cy="83844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7237800" y="5194440"/>
            <a:ext cx="17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s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by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51F0-05C3-4FCA-8B53-A6A3B3AC14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 Bod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nction bod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tains instructions the function follows to perform its assigned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ins with { and ends with }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last statement is usually </a:t>
            </a:r>
            <a:r>
              <a:rPr b="1" lang="en-US" sz="2400" spc="-1" strike="noStrike">
                <a:solidFill>
                  <a:srgbClr val="222222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expression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expression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presents the value the function returns to the statement that called 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statemen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erts computer that the function has completed its tas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ata type of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expression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ust agree with the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returnDataType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pecified in function heade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6F9F-2178-46D2-8FAE-DD09BD391D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a Function Prototyp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a function definition appears below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you must enter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unction prototyp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bove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totype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ies function’s name, data type of return value and of each formal parame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lnSpc>
                <a:spcPct val="2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ually after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#includ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us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1371600" y="3521160"/>
            <a:ext cx="6858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DF6-3668-4191-93A5-8A8264D03CF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the computer processes a statement containing a program-defined functio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locates the function’s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sses values of actual arguments to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receives values and stores them in the memory locations listed in it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arameterLi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 code is proces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2222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turn value is returned to calling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17F-0F2C-48D6-8E3F-6BF693E0A7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833480" y="685800"/>
            <a:ext cx="5253120" cy="5670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533520" y="763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A544-C6AE-40EF-891E-8727A0CA0A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976320" y="2720880"/>
            <a:ext cx="7191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25A-34CD-47CC-937B-E3037044150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395360" y="1557360"/>
            <a:ext cx="6437520" cy="202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1378080" y="3987720"/>
            <a:ext cx="6470640" cy="2032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2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cessing a Function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378080" y="2514600"/>
            <a:ext cx="6470640" cy="205740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5C1C-27C6-4F1A-9719-94BF324291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3246-9396-46F9-8C9C-1BD0B72E35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rite a function prototyp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 a variable’s scope and life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the .NET C++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th::Pow(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metho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e random integers in .NET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5BF9-2EC7-4CB3-AA05-43A9046D25F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cope and Lifetime of a Variabl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’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cop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icates where in the program it can be u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cal or glob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Local variable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are declared within a function or appear in a function’s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parameterLis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Global variable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re declared outside of any function and remain in memory until program end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void using global variables in your progra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’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lifetim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ndicates how long it remains in mem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88A2-D9B0-4A91-8295-EC291C9C35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calculates and displays a 5% bonus amou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ased on the amount of sales entered by the us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uses two value-returning function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getSales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calcBonus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825-0DCA-4AAA-8E01-323A6C8FCA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1368360" y="1506600"/>
            <a:ext cx="69375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234B-74EF-4458-B2BD-2AF74A623DC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400040" y="1089000"/>
            <a:ext cx="6448680" cy="5235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533520" y="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A65F-BC71-40B5-84C4-6D9A34008F5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976320" y="2214720"/>
            <a:ext cx="7191360" cy="1223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976320" y="3890880"/>
            <a:ext cx="71913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1A7D-56BA-49BB-87EA-04F7CB4042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440000" y="1676520"/>
            <a:ext cx="6470640" cy="2039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422360" y="3962520"/>
            <a:ext cx="6502320" cy="20653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1440000" y="1752480"/>
            <a:ext cx="6470640" cy="2048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6470640" cy="2032200"/>
          </a:xfrm>
          <a:prstGeom prst="rect">
            <a:avLst/>
          </a:prstGeom>
          <a:ln w="0">
            <a:noFill/>
          </a:ln>
        </p:spPr>
      </p:pic>
      <p:sp>
        <p:nvSpPr>
          <p:cNvPr id="24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0416-A04A-4F04-9115-A44C77D09D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8500-2309-4162-B817-2923154D935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339920" y="1676520"/>
            <a:ext cx="6470640" cy="2023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1301760" y="3886200"/>
            <a:ext cx="6470640" cy="2201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onus Calculation Program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D28-E0A2-4075-BFD2-0C523084D3C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 use functions because the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mer to avoid duplicating code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s to be broken into manageable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 value-returning or vo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pow(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rand(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are value-returning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unction definition has a function header and a bo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ader specifies return data type, function name, and (optional)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parameterList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losed in parenthe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y default, variables are passed to a function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6AA0-FA0D-4EDA-908C-A02EDCD6B9B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function body contains instructions for a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closed in bra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ust include a function prototype for each function defined below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’s scope can be either local or global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icates where in a program a variable can be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multiple memory locations have same name, and it appears in a statement, the computer uses the position of the statement within the program to determine which memory location to u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B792-53AF-42EA-B811-3E34CBEB49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aising a Number to a Pow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ing Random Numb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Program-Defined Value-Returning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cessing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A6CA-1353-4B62-9E49-217462C82D1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Value-Returning Functions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2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a program to calculate and display the monthly payments of a loa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3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ied program should allow user to enter interest rates either as a whole or as a decimal numb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9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1D02-71DF-441C-99FA-56A3230F3AD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function is a block of code that performs a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C++ program contains at least one function: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ntain many mo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mers use functions because the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mer to avoid duplicating cod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 programs to be broken into manageable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 categorized in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id fun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2C4E-4E7E-4C9D-A8CA-A37B2CCBBB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alue-Returning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alue-returning function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turns precisely one value after completing its assigned ta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ually returned to the statement that called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ypically, statement displays return value, uses it in a calculation, or assigns it to a vari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me value-returning functions are built into C++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.g.,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getline()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toupper(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5628-044E-4490-A295-786136552BE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aising a Number to a Pow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use </a:t>
            </a: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pow( 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raise a number to a power and return result as a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doubl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numb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958680" y="2919240"/>
            <a:ext cx="722664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8D25-9B4D-47C2-A17B-BA37C1CDEF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pseudo-random number generator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duces a sequence of numbers that meet certain statistical requirements for random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s are chosen with equal probability from a finite set of numb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osen numbers are sufficiently random for practical purpo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2222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Courier New"/>
              </a:rPr>
              <a:t>rand()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eturns an integer greater than or equal to zero and less than or equal to </a:t>
            </a: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RAND_MAX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22222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RAND_MAX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is always at least 32,767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EB9C-80DE-41BE-B441-78A6ADF9ECA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976320" y="2193840"/>
            <a:ext cx="7191360" cy="2835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enerating Random Numbers 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>Course Technology</dc:creator>
  <dc:description/>
  <dc:language>en-US</dc:language>
  <cp:lastModifiedBy>CE</cp:lastModifiedBy>
  <dcterms:modified xsi:type="dcterms:W3CDTF">2007-03-06T12:48:41Z</dcterms:modified>
  <cp:revision>523</cp:revision>
  <dc:subject/>
  <dc:title>Chapter 9</dc:title>
</cp:coreProperties>
</file>