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wmf" ContentType="image/x-wmf"/>
  <Override PartName="/ppt/media/image9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3.wmf" ContentType="image/x-wmf"/>
  <Override PartName="/ppt/media/image23.png" ContentType="image/png"/>
  <Override PartName="/ppt/media/image22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502D-CD21-47F6-B434-EEE3060F5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60E9-EE3B-493A-9A4E-B1DCE75C4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77EB-9B1F-4E9A-85E8-4B67CD5AF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D81F-39E0-4B10-841A-ED8A3BB27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4EA1-E740-41AD-86E2-6304B2B41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45827-B227-417E-AFFC-0905602C7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4360-CDE1-40BA-B209-ED9B577D6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CA9D-A501-4D83-9E67-3C731CB98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DBE3-54D8-4D00-97B5-2FE5AA49C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B55B6-A9C3-4C20-B2DA-616BA0B7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30759-D023-4D41-9620-FD70F280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F23A0-1B9B-47D3-8455-332B9927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AD074-475D-4AAD-94F7-76B23CAC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08D3B-82FE-4A1E-8DB1-CEA47B83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1D9B3-E2C8-4D18-A9D1-E87C835D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92863-0090-4C89-A101-87C45DC2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EBC6-C6D9-4CFE-A3C3-4BFDD3C47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E1FA8-9604-423F-912C-981C2C1D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7DFCB-0CE2-4391-BA99-15E0CA32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16B10-1CCC-4113-8FA0-CD80C3DD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F0693-C4E9-41AF-A89A-B363F5D2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F89CC-9F2A-4FFC-B3A6-36702033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221E-6199-40E7-8592-5A7AC8E30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5306-0D17-433A-B051-1E4EACAD9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8E60-042F-4E8C-B651-9B772B8C2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3418-3FAF-439C-AC95-9FDC49E90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8A89-DB15-4FDF-9034-484B4D26E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362A-6981-49DF-AF13-42DEF7E76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D4D85-7F33-4FB1-A158-52AFCF0B6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A295-DAAC-41D8-A8A1-00FAF3169CD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36E4-FD3E-4288-B0F0-489046E34B0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10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Void Function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880F-59DE-4905-A285-87A8A3B57BC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893960" y="1219320"/>
            <a:ext cx="5421240" cy="4975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4AB8-2209-4E98-B2C9-E258269B316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993600" y="2494080"/>
            <a:ext cx="71550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0214-3100-452F-BC88-47F831ED0D9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22628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69598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C2CE-321A-41F0-8B73-A26623FB5D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363680" y="1828800"/>
            <a:ext cx="6470640" cy="2065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1346040" y="4030560"/>
            <a:ext cx="6502680" cy="2065320"/>
          </a:xfrm>
          <a:prstGeom prst="rect">
            <a:avLst/>
          </a:prstGeom>
          <a:ln w="0">
            <a:noFill/>
          </a:ln>
        </p:spPr>
      </p:pic>
      <p:sp>
        <p:nvSpPr>
          <p:cNvPr id="142" name="Title 1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0221-CDF6-4461-9BF0-72B303AEC52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ing a variable’s address is referred to as passing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eiving function has access to passed vari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when you want receiving function to change contents of vari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pass a variable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C++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clude an </a:t>
            </a:r>
            <a:r>
              <a:rPr b="1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amp;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before the name of the corresponding formal parameter in receiving function’s hea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lled the 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address-of operato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7EE6-49CE-4E39-9AEE-B4C3CEDD0A1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98680" y="2295360"/>
            <a:ext cx="6146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115C-AF18-4AA4-AF77-F01AF73FE6C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43200" y="1235160"/>
            <a:ext cx="5548320" cy="49370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533520" y="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EDA1-9EF1-4A65-A952-048AD73EB12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055520" y="1981080"/>
            <a:ext cx="7155000" cy="133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1038240" y="3581280"/>
            <a:ext cx="7191360" cy="2070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7AFB-A682-4449-B93F-0970127B39D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6934320" cy="2371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1150920" y="1627200"/>
            <a:ext cx="6850080" cy="21621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F3BE-A3B1-4D5E-A35F-C8C076D3BD0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6629400" cy="2116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1163520" y="1828800"/>
            <a:ext cx="6685200" cy="21337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89CB-BFEA-4BCE-9EAF-9468905F36D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e a function that does not return a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voke a function that does not return a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 information,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to a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void functions in a .NET C++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0C43-449F-4502-8A9E-D939EB1BAC2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and</a:t>
            </a:r>
            <a:br>
              <a:rPr sz="3600"/>
            </a:b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mix the way variables are passed when a function is called, passing some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d others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 in Figure 10-15 allows user to enter an employee’s current salary and raise ra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t then calculates and displays the employee’s raise and new salary amou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6770-4C3B-42A5-942A-C49354BD0F2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711440" y="1212840"/>
            <a:ext cx="5527440" cy="51879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33520" y="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and</a:t>
            </a:r>
            <a:br>
              <a:rPr sz="3600"/>
            </a:b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0CE3-A789-45B4-B14A-431C2B55301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433520" y="1290600"/>
            <a:ext cx="6415200" cy="5033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33520" y="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and</a:t>
            </a:r>
            <a:br>
              <a:rPr sz="3600"/>
            </a:b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7A88-A4F7-4E5E-89C8-8B4817EBFC8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188480" cy="1420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1084320" y="3657600"/>
            <a:ext cx="7153200" cy="24382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and</a:t>
            </a:r>
            <a:br>
              <a:rPr sz="3600"/>
            </a:b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F727-FD85-4DEC-8505-D3E6BB399F1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152360" y="1623960"/>
            <a:ext cx="7153560" cy="244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"/>
          <a:stretch/>
        </p:blipFill>
        <p:spPr>
          <a:xfrm>
            <a:off x="1152360" y="4151160"/>
            <a:ext cx="7153560" cy="2249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FF73-4D36-4173-BC13-9028E46881E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can b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alue-retur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oi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Function header begins with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voi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value stored inside variable is passed to receiving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variable’s address in memory is passed to receiving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eiving function can change variable’s cont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amp;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before corresponding formal parame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2D50-3084-4F99-9E9B-B7B8CD1F6EC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Void Functions in a C++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0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0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 program to calculate customer’s water bi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0.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dified program will use two void functions (rather than one void function) to calculate the number of gallons used and the water charg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0.4: Desk-Check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0.5: Debugging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F456-A063-49DC-A99F-91FC2526EB4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re About 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ing Void 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ing Variables to a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996F-C947-4D3B-854D-C90136A8F44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re About Func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functions to avoid duplicating co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y also allow large and complex programs to be broken into small and manageable tas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2222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main(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is typically responsible for invoking each of the other functions when need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gram-defined functions streamline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main(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can b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alue-retur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oi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A523-89A7-4A3A-A31A-1A42DB2A35C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ating Void Func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Void function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o not return a value after completing their assigned tas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to display information (such as a title and column headings) at the top of each page in a repor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voids repeating code several times in progra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5571-4C3C-4DC5-B127-A40DC7FD8F0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Group 7"/>
          <p:cNvGrpSpPr/>
          <p:nvPr/>
        </p:nvGrpSpPr>
        <p:grpSpPr>
          <a:xfrm>
            <a:off x="760320" y="1522440"/>
            <a:ext cx="7850160" cy="4878360"/>
            <a:chOff x="760320" y="1522440"/>
            <a:chExt cx="7850160" cy="4878360"/>
          </a:xfrm>
        </p:grpSpPr>
        <p:pic>
          <p:nvPicPr>
            <p:cNvPr id="109" name="Picture 4" descr=""/>
            <p:cNvPicPr/>
            <p:nvPr/>
          </p:nvPicPr>
          <p:blipFill>
            <a:blip r:embed="rId1"/>
            <a:stretch/>
          </p:blipFill>
          <p:spPr>
            <a:xfrm>
              <a:off x="760320" y="1522440"/>
              <a:ext cx="7623360" cy="473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5"/>
            <p:cNvSpPr/>
            <p:nvPr/>
          </p:nvSpPr>
          <p:spPr>
            <a:xfrm>
              <a:off x="6858000" y="1523880"/>
              <a:ext cx="1600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7543800" y="5715000"/>
              <a:ext cx="10666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ating Void Funct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0BE1-4E3F-4B6D-9C91-9DC56C16991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to a Fun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variable has both a value and a unique address (memory location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pass either the variable’s value or its address to the receiving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ss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by valu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ss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by refere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329E-6D36-468D-9E51-5C0A2D89DE2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a pass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the computer passes the contents of the variable to the receiving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eiving function is not given access to the variable in mem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t cannot change value stored inside variab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default, variables are passed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C++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CB23-0951-4A3E-9EF8-CB18866C4AA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569960" y="1677960"/>
            <a:ext cx="6002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7-03-27T23:54:45Z</dcterms:modified>
  <cp:revision>476</cp:revision>
  <dc:subject/>
  <dc:title>Chapter 10</dc:title>
</cp:coreProperties>
</file>