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4.wmf" ContentType="image/x-wmf"/>
  <Override PartName="/ppt/media/image34.wmf" ContentType="image/x-wmf"/>
  <Override PartName="/ppt/media/image2.png" ContentType="image/png"/>
  <Override PartName="/ppt/media/image5.wmf" ContentType="image/x-wmf"/>
  <Override PartName="/ppt/media/image13.wmf" ContentType="image/x-wmf"/>
  <Override PartName="/ppt/media/image38.wmf" ContentType="image/x-wmf"/>
  <Override PartName="/ppt/media/image40.wmf" ContentType="image/x-wmf"/>
  <Override PartName="/ppt/media/image42.png" ContentType="image/png"/>
  <Override PartName="/ppt/media/image28.png" ContentType="image/png"/>
  <Override PartName="/ppt/media/image31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7.wmf" ContentType="image/x-wmf"/>
  <Override PartName="/ppt/media/image51.wmf" ContentType="image/x-wmf"/>
  <Override PartName="/ppt/media/image12.wmf" ContentType="image/x-wmf"/>
  <Override PartName="/ppt/media/image49.wmf" ContentType="image/x-wmf"/>
  <Override PartName="/ppt/media/image39.wmf" ContentType="image/x-wmf"/>
  <Override PartName="/ppt/media/image9.wmf" ContentType="image/x-wmf"/>
  <Override PartName="/ppt/media/image27.png" ContentType="image/png"/>
  <Override PartName="/ppt/media/image30.wmf" ContentType="image/x-wmf"/>
  <Override PartName="/ppt/media/image41.wmf" ContentType="image/x-wmf"/>
  <Override PartName="/ppt/media/image8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F826-0806-44DE-8109-675F54D14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2531-F264-42B6-9C09-4176130B9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BFB1-259F-4C1C-AD35-C0A1A73E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C867-7B43-4401-8C89-1FA8470C2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2625-16BB-4060-95E8-F7F8688FA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CFB8-0E2C-43F8-BEB3-25431EC1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50689-A7DD-4150-9D1C-ADF8E03A8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008B-04E2-4FA1-88ED-B91DD6461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1923-F8ED-420C-8EB4-E946AAD90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7A57-57D2-468D-B755-25BB5752D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9AA7F-4E51-4AFC-B1F8-6DB368AD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E66FE-13EF-437B-BCB1-9CA51CDA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D3F3-C98C-43B8-B0BA-A90D17E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D2786-838F-457D-952A-3CDC04AF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7EF1F-D10C-4AFE-A563-C50CDE56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1BCCE-7FA1-4318-845E-77410731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CB0B5-CFD1-4C0D-BBF6-BA4B2B6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65F1-7550-4395-8E81-8AEEDFBA3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A245B-BDFD-4464-8BD4-EC282E78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06A68-D9EA-444B-A399-7FE85D09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1C24B-5481-4813-A099-32638541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42F27-65E7-47FA-8312-39506BAF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FD0AF-FB54-4142-A820-F40BC701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E2A3-DDDF-4012-B780-FE8A84D26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E471-70D5-42BB-B108-8E16E6A6E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387C-A95F-43A8-A223-1BA564889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07D0-D685-48FE-9F72-343059ABD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1746-50E2-4CC1-8B52-9EF7D0B01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D2A8-E720-4E13-8D34-F99D47453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BDED-55F1-47C9-849A-C797ECB56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D93-E7F2-4012-9129-ACF8CB0447D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029B-C325-4C14-8A00-BB5010FB22E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1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Array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6519-F5CE-4E22-B9AD-13A0CD102AF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054760" cy="5054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533520" y="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5399-26EF-4F67-8956-EAAB357A60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One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353960" y="2505240"/>
            <a:ext cx="6436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0D5F-7274-411B-B475-E780A702DBF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One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353960" y="1905120"/>
            <a:ext cx="643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CB9E-59B8-462A-A2D7-4CCB74F86D3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ipulating One-Dimensional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mon array manipulation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play the contents of a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ess an array element using its subscrip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arch a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lculate the average of the data stored in a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d the highest value stored in a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pdate the array ele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rt the array elements using bubble s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7FA5-FA5F-4F44-A09C-E0C9ABF86EF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splaying the Contents of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 may need simply to display the contents of an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353960" y="2946240"/>
            <a:ext cx="64360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B46D-53DD-4B69-9C40-9C7FDDBD1C1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splaying the Contents of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373040" y="2422440"/>
            <a:ext cx="639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058-299E-4D7E-B7D3-07E65F7C3DE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Subscript to Access an Element in a 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fore accessing element, verify if subscript is vali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536840" y="2239920"/>
            <a:ext cx="60958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1D5A-2B38-4E56-A48A-F5AF9F9BAE4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manager wants to determine the number of salespeople selling above a specific amou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searches the sales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rray contains amount sold by each salespers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Look for values greater than the amount provided by sales manag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B8B3-A36C-486A-A4D1-20A32086549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525680" y="1271520"/>
            <a:ext cx="6018120" cy="4977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40EE-9206-4A24-B4E0-C43C69AF6EC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lculating the Average Amount Stored in a One-Dimensional Numeric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f. Jeremiah wants to calculate and display average test score earned by students on fina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adds test scores that are stored i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en, divide sum by number of elemen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0D2A-8FBC-4A56-A316-198E376B8B3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clare and initialize a one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ipulate a one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ain the bubble sort algorith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a one-dimensional array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parallel one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1C40-5F9F-4F1D-AB55-122CD3E3EF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1353960" y="1909800"/>
            <a:ext cx="6436080" cy="4338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lculating the Average Amount Stored in a One-Dimensional Numeric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BED9-3603-4DB5-87C5-59634955070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Highest Value Stored in a 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on Johnson keeps track of the amount of money she earns each wee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displays highest amount earned in a wee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tores pay amounts in a one-dimensional arra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AB0A-9388-4EBE-8EDB-EAFAF94C9D2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1582560" y="1227240"/>
            <a:ext cx="6113520" cy="5096880"/>
            <a:chOff x="1582560" y="1227240"/>
            <a:chExt cx="6113520" cy="5096880"/>
          </a:xfrm>
        </p:grpSpPr>
        <p:pic>
          <p:nvPicPr>
            <p:cNvPr id="179" name="Picture 4" descr=""/>
            <p:cNvPicPr/>
            <p:nvPr/>
          </p:nvPicPr>
          <p:blipFill>
            <a:blip r:embed="rId1"/>
            <a:stretch/>
          </p:blipFill>
          <p:spPr>
            <a:xfrm>
              <a:off x="1582560" y="1227240"/>
              <a:ext cx="6113520" cy="23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5" descr=""/>
            <p:cNvPicPr/>
            <p:nvPr/>
          </p:nvPicPr>
          <p:blipFill>
            <a:blip r:embed="rId2"/>
            <a:stretch/>
          </p:blipFill>
          <p:spPr>
            <a:xfrm>
              <a:off x="1582560" y="3563640"/>
              <a:ext cx="6113520" cy="27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Highest Value Stored in a 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8886-333E-4847-BE16-7676EA129CE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pda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manager at Jillian Company wants a function that increases the price of each item company sel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stores prices in a one-dimensional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en, increase value stored in each el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so, display each item’s new price on scree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C9C4-3AA3-4062-88F2-A760C254C5F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582560" y="1203480"/>
            <a:ext cx="5961240" cy="49687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pda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F48C-F4DB-4863-BEE6-3BB4518DFBD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ranging data in a specific order is 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or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cending or descending or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bble sort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is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quick and easy (for small array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jacent elements that are out of order are swap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373040" y="3733920"/>
            <a:ext cx="6397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9BEE-DFA4-46B9-9613-4321909878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2544840" y="1015920"/>
            <a:ext cx="4084560" cy="5308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672F-B076-4147-B28A-5E031A07F70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658880" y="1092240"/>
            <a:ext cx="5808600" cy="334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1735200" y="4495680"/>
            <a:ext cx="5580000" cy="16304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E1BA-64FA-4111-9FD3-856E2900DFC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353960" y="1179360"/>
            <a:ext cx="6436080" cy="224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1353960" y="3625920"/>
            <a:ext cx="6436080" cy="25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A26F-5205-4414-BFE7-4F27F5A27A8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06600" y="1082520"/>
            <a:ext cx="5884920" cy="263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447920" y="3724200"/>
            <a:ext cx="5960880" cy="2676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208-9C15-4E54-A0D4-5454B7B499C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clare and initialize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ter data into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arch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tilize a one-dimensional array in a .NET C++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6FA9-BCE9-466B-A9A0-C62ACEC654B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752480" y="1220760"/>
            <a:ext cx="5521320" cy="2513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1811160" y="3809880"/>
            <a:ext cx="5351760" cy="2509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F8CE-EA72-43CD-B2A6-E9EEED9A9A4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798560" y="1125360"/>
            <a:ext cx="5211720" cy="2455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1816200" y="3657600"/>
            <a:ext cx="5194080" cy="2654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1274-B1EE-4151-A5CE-F4D32BF813E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677960" y="1098720"/>
            <a:ext cx="5789520" cy="3701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1373040" y="4876920"/>
            <a:ext cx="6397920" cy="1385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C6FD-D8C9-4942-8191-A337EF7D95C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a One-Dimensional Array to a Fun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default, scalar variables are pass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pas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y referenc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address-of (&amp;) operator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rays in C++ are pass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re efficient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dress of first element is passed to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dress-of operator is not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C732-1342-4198-9F24-2C8ED475603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990720" y="1143000"/>
            <a:ext cx="5870520" cy="5028840"/>
            <a:chOff x="990720" y="1143000"/>
            <a:chExt cx="5870520" cy="5028840"/>
          </a:xfrm>
        </p:grpSpPr>
        <p:pic>
          <p:nvPicPr>
            <p:cNvPr id="236" name="Picture 5" descr=""/>
            <p:cNvPicPr/>
            <p:nvPr/>
          </p:nvPicPr>
          <p:blipFill>
            <a:blip r:embed="rId1"/>
            <a:stretch/>
          </p:blipFill>
          <p:spPr>
            <a:xfrm>
              <a:off x="990720" y="1264680"/>
              <a:ext cx="5870520" cy="490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6"/>
            <p:cNvSpPr/>
            <p:nvPr/>
          </p:nvSpPr>
          <p:spPr>
            <a:xfrm>
              <a:off x="993240" y="1143000"/>
              <a:ext cx="1222200" cy="61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a One-Dimensional Array to a Function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E2D1-737D-4AE3-8F07-E16E16FD8B2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Parallel One-Dimensional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koda Tapahe wants a program that displays the price of the item whose product ID she en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919240" y="3162240"/>
            <a:ext cx="3303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B2E0-9EA5-4DCE-AE57-6EF44CBA26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Parallel One-Dimensional Array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arallel array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 two or more arrays whose elements are related by their position in the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lated by their subscrip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2470320" y="3581280"/>
            <a:ext cx="4203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F7EC-3ED0-40F8-BBA5-A08723D0367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Group 10"/>
          <p:cNvGrpSpPr/>
          <p:nvPr/>
        </p:nvGrpSpPr>
        <p:grpSpPr>
          <a:xfrm>
            <a:off x="1924200" y="1066680"/>
            <a:ext cx="5467320" cy="5181840"/>
            <a:chOff x="1924200" y="1066680"/>
            <a:chExt cx="5467320" cy="5181840"/>
          </a:xfrm>
        </p:grpSpPr>
        <p:pic>
          <p:nvPicPr>
            <p:cNvPr id="252" name="Picture 6" descr=""/>
            <p:cNvPicPr/>
            <p:nvPr/>
          </p:nvPicPr>
          <p:blipFill>
            <a:blip r:embed="rId1"/>
            <a:stretch/>
          </p:blipFill>
          <p:spPr>
            <a:xfrm>
              <a:off x="1924200" y="1127880"/>
              <a:ext cx="5292360" cy="47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" descr=""/>
            <p:cNvPicPr/>
            <p:nvPr/>
          </p:nvPicPr>
          <p:blipFill>
            <a:blip r:embed="rId2"/>
            <a:stretch/>
          </p:blipFill>
          <p:spPr>
            <a:xfrm>
              <a:off x="1938600" y="5870880"/>
              <a:ext cx="420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8"/>
            <p:cNvSpPr/>
            <p:nvPr/>
          </p:nvSpPr>
          <p:spPr>
            <a:xfrm>
              <a:off x="6983280" y="4937400"/>
              <a:ext cx="408240" cy="73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6108480" y="1066680"/>
              <a:ext cx="1283040" cy="73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Parallel One-Dimensional Array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6FAF-5BB4-4081-8870-223B8AFD751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7"/>
          <p:cNvGrpSpPr/>
          <p:nvPr/>
        </p:nvGrpSpPr>
        <p:grpSpPr>
          <a:xfrm>
            <a:off x="2027160" y="1219320"/>
            <a:ext cx="5211360" cy="5055840"/>
            <a:chOff x="2027160" y="1219320"/>
            <a:chExt cx="5211360" cy="5055840"/>
          </a:xfrm>
        </p:grpSpPr>
        <p:pic>
          <p:nvPicPr>
            <p:cNvPr id="260" name="Picture 6" descr=""/>
            <p:cNvPicPr/>
            <p:nvPr/>
          </p:nvPicPr>
          <p:blipFill>
            <a:blip r:embed="rId1"/>
            <a:stretch/>
          </p:blipFill>
          <p:spPr>
            <a:xfrm>
              <a:off x="2032920" y="2441880"/>
              <a:ext cx="5205600" cy="38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4" descr=""/>
            <p:cNvPicPr/>
            <p:nvPr/>
          </p:nvPicPr>
          <p:blipFill>
            <a:blip r:embed="rId2"/>
            <a:stretch/>
          </p:blipFill>
          <p:spPr>
            <a:xfrm>
              <a:off x="2027160" y="1376280"/>
              <a:ext cx="495648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"/>
            <p:cNvPicPr/>
            <p:nvPr/>
          </p:nvPicPr>
          <p:blipFill>
            <a:blip r:embed="rId3"/>
            <a:stretch/>
          </p:blipFill>
          <p:spPr>
            <a:xfrm>
              <a:off x="2034360" y="1219320"/>
              <a:ext cx="498456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Parallel One-Dimensional Array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DBED-2CCE-4037-BA17-8604141F381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wo-Dimensional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Two-dimensional array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resembles a t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lements are in rows and colum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element is identified by two subscrip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bscripts specify the variable’s row and column position in the arra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487600" y="4025880"/>
            <a:ext cx="4167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1D29-CEE7-46B2-B272-8F206F3174B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toring Data in a One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ipulating One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ing a One-Dimensional Array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1264-6BF1-42A8-8669-094A56F0247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353960" y="1095480"/>
            <a:ext cx="6436080" cy="5229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533520" y="3049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wo-Dimensional Array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6F66-4AAE-4A67-B1F4-EC5A38ABED3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wo-Dimensional Array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1353960" y="2057400"/>
            <a:ext cx="6436080" cy="1521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1390680" y="4189320"/>
            <a:ext cx="539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C14-DB67-42EC-BC65-002DC679E64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Two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use an assignment statement to enter data into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use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gt;&gt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getline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wo loops to access every element in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loop tracks row subscrip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 loop tracks column subscrip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E3BB-A539-4A70-837F-F4DD6C1B02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752480" y="1198440"/>
            <a:ext cx="5330880" cy="50500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Two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2305-0612-4AEE-B04F-0154BA92B24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Two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353960" y="2205000"/>
            <a:ext cx="64342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A854-E81B-4172-9E60-59CE562E770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1582560" y="1446120"/>
            <a:ext cx="6037560" cy="4802040"/>
            <a:chOff x="1582560" y="1446120"/>
            <a:chExt cx="6037560" cy="4802040"/>
          </a:xfrm>
        </p:grpSpPr>
        <p:pic>
          <p:nvPicPr>
            <p:cNvPr id="293" name="Picture 4" descr=""/>
            <p:cNvPicPr/>
            <p:nvPr/>
          </p:nvPicPr>
          <p:blipFill>
            <a:blip r:embed="rId1"/>
            <a:stretch/>
          </p:blipFill>
          <p:spPr>
            <a:xfrm>
              <a:off x="1582560" y="1446120"/>
              <a:ext cx="6037560" cy="24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5" descr=""/>
            <p:cNvPicPr/>
            <p:nvPr/>
          </p:nvPicPr>
          <p:blipFill>
            <a:blip r:embed="rId2"/>
            <a:stretch/>
          </p:blipFill>
          <p:spPr>
            <a:xfrm>
              <a:off x="1582560" y="3846240"/>
              <a:ext cx="6037560" cy="240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Rectangle 4"/>
          <p:cNvSpPr/>
          <p:nvPr/>
        </p:nvSpPr>
        <p:spPr>
          <a:xfrm>
            <a:off x="533520" y="1522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Two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16F-D32D-43DE-8D2F-804DB2651D7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Two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wo one-dimensional (parallel) arrays can be replaced with one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5DFD-DE4D-432F-8687-BBB617B021A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Group 11"/>
          <p:cNvGrpSpPr/>
          <p:nvPr/>
        </p:nvGrpSpPr>
        <p:grpSpPr>
          <a:xfrm>
            <a:off x="1168560" y="1219320"/>
            <a:ext cx="6984360" cy="5104800"/>
            <a:chOff x="1168560" y="1219320"/>
            <a:chExt cx="6984360" cy="5104800"/>
          </a:xfrm>
        </p:grpSpPr>
        <p:pic>
          <p:nvPicPr>
            <p:cNvPr id="303" name="Picture 5" descr=""/>
            <p:cNvPicPr/>
            <p:nvPr/>
          </p:nvPicPr>
          <p:blipFill>
            <a:blip r:embed="rId1"/>
            <a:stretch/>
          </p:blipFill>
          <p:spPr>
            <a:xfrm>
              <a:off x="1193760" y="1219320"/>
              <a:ext cx="677232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6" descr=""/>
            <p:cNvPicPr/>
            <p:nvPr/>
          </p:nvPicPr>
          <p:blipFill>
            <a:blip r:embed="rId2"/>
            <a:stretch/>
          </p:blipFill>
          <p:spPr>
            <a:xfrm>
              <a:off x="1168560" y="5920560"/>
              <a:ext cx="529812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7"/>
            <p:cNvSpPr/>
            <p:nvPr/>
          </p:nvSpPr>
          <p:spPr>
            <a:xfrm>
              <a:off x="7707240" y="4948920"/>
              <a:ext cx="445680" cy="61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6496920" y="1219320"/>
              <a:ext cx="1592280" cy="6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10"/>
            <p:cNvSpPr/>
            <p:nvPr/>
          </p:nvSpPr>
          <p:spPr>
            <a:xfrm>
              <a:off x="1401840" y="5916960"/>
              <a:ext cx="12708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Two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62E-E9A4-423D-A6E8-7F8CF557407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Group 11"/>
          <p:cNvGrpSpPr/>
          <p:nvPr/>
        </p:nvGrpSpPr>
        <p:grpSpPr>
          <a:xfrm>
            <a:off x="1959120" y="1219320"/>
            <a:ext cx="5127120" cy="4952520"/>
            <a:chOff x="1959120" y="1219320"/>
            <a:chExt cx="5127120" cy="4952520"/>
          </a:xfrm>
        </p:grpSpPr>
        <p:pic>
          <p:nvPicPr>
            <p:cNvPr id="312" name="Picture 6" descr=""/>
            <p:cNvPicPr/>
            <p:nvPr/>
          </p:nvPicPr>
          <p:blipFill>
            <a:blip r:embed="rId1"/>
            <a:stretch/>
          </p:blipFill>
          <p:spPr>
            <a:xfrm>
              <a:off x="1959120" y="1366920"/>
              <a:ext cx="4988520" cy="12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7" descr=""/>
            <p:cNvPicPr/>
            <p:nvPr/>
          </p:nvPicPr>
          <p:blipFill>
            <a:blip r:embed="rId2"/>
            <a:stretch/>
          </p:blipFill>
          <p:spPr>
            <a:xfrm>
              <a:off x="1963080" y="1243440"/>
              <a:ext cx="4960440" cy="1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8" descr=""/>
            <p:cNvPicPr/>
            <p:nvPr/>
          </p:nvPicPr>
          <p:blipFill>
            <a:blip r:embed="rId3"/>
            <a:stretch/>
          </p:blipFill>
          <p:spPr>
            <a:xfrm>
              <a:off x="1959120" y="2652480"/>
              <a:ext cx="4988520" cy="35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0" descr=""/>
            <p:cNvPicPr/>
            <p:nvPr/>
          </p:nvPicPr>
          <p:blipFill>
            <a:blip r:embed="rId4"/>
            <a:stretch/>
          </p:blipFill>
          <p:spPr>
            <a:xfrm>
              <a:off x="6702840" y="1219320"/>
              <a:ext cx="383400" cy="208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Two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E838-DEE6-4C7E-A6FC-0846091293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Two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958680" y="2664000"/>
            <a:ext cx="7226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D743-EC78-439B-9215-4F958D92E4A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Parallel One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wo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toring Data in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arching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9938-8A00-4EA8-AF2C-FBA10FEB72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array is a group of variables that have the same name and data type and are related in some w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-dimension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Visualize as a column of variabl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wo-dimension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Visualize as a t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ust declare an array before you can use 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elements in a one-dimensional array is assigned a subscrip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rst element has subscript 0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229E-9857-4AC9-9587-C1F52D5928C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rallel arrays are two or more arrays whose elements are related by their subscript in the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reate a two-dimensional array specify the number of rows and colum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element is identified by two subscrip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irst subscript represents the element’s row loc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econd subscript represents its column loc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wo loops to access every element in a two-dimensional array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5637-DE9C-481D-81FB-A28AF2645C8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Arrays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 should either display the monthly rainfall amounts on the screen or calculate and display the total rainfall am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ied program will use a value-returning function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calcTotal()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to calculate the total rainfall am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E6C6-5B87-4ED7-B51F-94E323BE21D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imple variab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unrelated to other variables in computer’s internal mem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called a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calar vari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rray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a group of variab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me name and data typ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ariables are related in some w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commonly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One-dimensional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ree-dimensional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20B2-1E5E-4F28-806C-30DE2D6884F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isualize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one-dimensional array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 a column of variab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ubscrip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(or index) identifies each vari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dicates the variable’s position in the arra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bscript of first variable is 0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98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98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98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98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gin by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opulating the array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o it does not contain garb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2541600" y="3821040"/>
            <a:ext cx="4632840" cy="1573200"/>
            <a:chOff x="2541600" y="3821040"/>
            <a:chExt cx="4632840" cy="1573200"/>
          </a:xfrm>
        </p:grpSpPr>
        <p:pic>
          <p:nvPicPr>
            <p:cNvPr id="115" name="Picture 4" descr=""/>
            <p:cNvPicPr/>
            <p:nvPr/>
          </p:nvPicPr>
          <p:blipFill>
            <a:blip r:embed="rId1"/>
            <a:stretch/>
          </p:blipFill>
          <p:spPr>
            <a:xfrm>
              <a:off x="2541600" y="3873240"/>
              <a:ext cx="405936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Line 5"/>
            <p:cNvSpPr/>
            <p:nvPr/>
          </p:nvSpPr>
          <p:spPr>
            <a:xfrm flipH="1">
              <a:off x="5562720" y="4025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6004800" y="382104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l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B2E7-196D-4B5B-AAF2-BB5B954BCC2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968480" y="779400"/>
            <a:ext cx="5346720" cy="5469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533520" y="1522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624C-3023-4F6E-87D4-8A1FDD8A273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use an assignment statement to enter data into an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Figure 11-3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us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  <a:ea typeface="Courier New"/>
              </a:rPr>
              <a:t>&gt;&gt;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getline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Figure 11-4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27T23:54:22Z</dcterms:modified>
  <cp:revision>516</cp:revision>
  <dc:subject/>
  <dc:title>Chapter 11</dc:title>
</cp:coreProperties>
</file>