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29.png" ContentType="image/png"/>
  <Override PartName="/ppt/media/image32.wmf" ContentType="image/x-wmf"/>
  <Override PartName="/ppt/media/image14.wmf" ContentType="image/x-wmf"/>
  <Override PartName="/ppt/media/image1.jpeg" ContentType="image/jpeg"/>
  <Override PartName="/ppt/media/image10.png" ContentType="image/png"/>
  <Override PartName="/ppt/media/image50.wmf" ContentType="image/x-wmf"/>
  <Override PartName="/ppt/media/image4.wmf" ContentType="image/x-wmf"/>
  <Override PartName="/ppt/media/image34.wmf" ContentType="image/x-wmf"/>
  <Override PartName="/ppt/media/image2.png" ContentType="image/png"/>
  <Override PartName="/ppt/media/image5.wmf" ContentType="image/x-wmf"/>
  <Override PartName="/ppt/media/image13.wmf" ContentType="image/x-wmf"/>
  <Override PartName="/ppt/media/image38.wmf" ContentType="image/x-wmf"/>
  <Override PartName="/ppt/media/image40.wmf" ContentType="image/x-wmf"/>
  <Override PartName="/ppt/media/image42.png" ContentType="image/png"/>
  <Override PartName="/ppt/media/image28.png" ContentType="image/png"/>
  <Override PartName="/ppt/media/image31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48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47.wmf" ContentType="image/x-wmf"/>
  <Override PartName="/ppt/media/image51.wmf" ContentType="image/x-wmf"/>
  <Override PartName="/ppt/media/image12.wmf" ContentType="image/x-wmf"/>
  <Override PartName="/ppt/media/image49.wmf" ContentType="image/x-wmf"/>
  <Override PartName="/ppt/media/image39.wmf" ContentType="image/x-wmf"/>
  <Override PartName="/ppt/media/image9.wmf" ContentType="image/x-wmf"/>
  <Override PartName="/ppt/media/image27.png" ContentType="image/png"/>
  <Override PartName="/ppt/media/image30.wmf" ContentType="image/x-wmf"/>
  <Override PartName="/ppt/media/image41.wmf" ContentType="image/x-wmf"/>
  <Override PartName="/ppt/media/image8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2959-74EC-4B72-95C5-BB3A42175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006A-2D63-4F96-A61F-B7C9ACA15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12BF-8161-47AD-A149-AF5D39583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869C-8B9F-4BF0-BDCC-AECF2C237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BF4A-EE69-43EF-815C-FE90AD96F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C590-C8F7-425F-B7E4-C04FBDAFA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1D8A-35D0-470C-8DF3-CA1CD3392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D934-02CD-46B8-8ABD-3BB952D15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712B-C4F2-4ACC-BF66-E00D8F239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7F33-B967-48FB-AEC3-C679AFD72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2EE4F-23A7-4708-B937-77B870E1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64EDB-D32E-48A0-93C6-55E317AA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4ECEB-3584-40F9-B91C-127AD663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B4415-B90B-4487-996F-FE7CAF0D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C649C-B1C0-46FF-B929-38AE312D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17F30-5C43-4D22-A09E-7AEDB025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AF7F5-F6A1-43AF-8FF9-02DCF6D0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8FC3-3C11-41A9-AC49-DDC8D4AFC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07CF3-E921-4D9E-8BFF-AD2D2857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AC62A-A2CD-4346-BD3F-0D383BF7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81A4A-6B92-4D58-9C45-0EB2FFF4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B6D4C-2E13-48D5-B8EC-48D2E364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0FE18-DE6D-4DB3-8F4C-166AE05D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6EBE-76C2-4374-97EA-589A39A7D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D34E-87FE-4632-B0C6-CEC592109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38AB6-A97C-421E-87BB-604B2C8843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6E4C-0C87-4C8A-A07D-CF740E4E3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23CA-C2D1-4131-87C9-1C42DE1A9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1943-565A-4D6D-A3BF-E6429F3E0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8EA4C-5B71-41C7-856E-BDE9621FE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36FC-7095-4AB3-8391-A3AB1F39C1D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0322-CE2E-42AC-9168-132879716D9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11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Array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9455-9FFD-4038-A22B-4F3ADB70A40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054760" cy="5054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533520" y="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E663-896D-41C8-938E-520D37D840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One-Dimensional Arra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353960" y="2505240"/>
            <a:ext cx="64360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1530-56CC-40B9-B2BE-AAA107B1B0C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One-Dimensional Arra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353960" y="1905120"/>
            <a:ext cx="6436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78DE-E1B3-4890-B887-17C3FFD372F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ipulating One-Dimensional Array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mon array manipulation 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splay the contents of an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ess an array element using its subscrip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arch an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lculate the average of the data stored in an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d the highest value stored in an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pdate the array elem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rt the array elements using bubble sor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793F-8E09-445E-B364-E4B5AE119D6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isplaying the Contents of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 may need simply to display the contents of an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353960" y="2946240"/>
            <a:ext cx="64360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50ED-D931-4F77-ADC9-E5672A75C7B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isplaying the Contents of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373040" y="2422440"/>
            <a:ext cx="639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B810-2B0E-4660-B4D3-C5B0F78BB19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Subscript to Access an Element in a 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fore accessing element, verify if subscript is vali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536840" y="2239920"/>
            <a:ext cx="60958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40C0-A6C2-4135-8B08-0DED777ECA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les manager wants to determine the number of salespeople selling above a specific amou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searches the sales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rray contains amount sold by each salespers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Look for values greater than the amount provided by sales manag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5CCA-47E1-44F5-8986-9CEDFADCEC1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525680" y="1271520"/>
            <a:ext cx="6018120" cy="4977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1E9E-B180-43BB-A283-B001FE83D82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alculating the Average Amount Stored in a One-Dimensional Numeric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f. Jeremiah wants to calculate and display average test score earned by students on fina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adds test scores that are stored in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hen, divide sum by number of element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72D2-A14F-416B-98C6-DBBAE112935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clare and initialize a one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ipulate a one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lain the bubble sort algorith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 a one-dimensional array to a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parallel one-dimensional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0437-3469-4C8C-9161-C04F8C725AB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1353960" y="1909800"/>
            <a:ext cx="6436080" cy="43387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alculating the Average Amount Stored in a One-Dimensional Numeric Arra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B757-1BD3-47F8-951D-43AB6DEB55A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the Highest Value Stored in a 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on Johnson keeps track of the amount of money she earns each wee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displays highest amount earned in a wee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tores pay amounts in a one-dimensional arra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2544-7857-42C5-8D08-234039CA7BC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Group 6"/>
          <p:cNvGrpSpPr/>
          <p:nvPr/>
        </p:nvGrpSpPr>
        <p:grpSpPr>
          <a:xfrm>
            <a:off x="1582560" y="1227240"/>
            <a:ext cx="6113520" cy="5096880"/>
            <a:chOff x="1582560" y="1227240"/>
            <a:chExt cx="6113520" cy="5096880"/>
          </a:xfrm>
        </p:grpSpPr>
        <p:pic>
          <p:nvPicPr>
            <p:cNvPr id="179" name="Picture 4" descr=""/>
            <p:cNvPicPr/>
            <p:nvPr/>
          </p:nvPicPr>
          <p:blipFill>
            <a:blip r:embed="rId1"/>
            <a:stretch/>
          </p:blipFill>
          <p:spPr>
            <a:xfrm>
              <a:off x="1582560" y="1227240"/>
              <a:ext cx="6113520" cy="23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5" descr=""/>
            <p:cNvPicPr/>
            <p:nvPr/>
          </p:nvPicPr>
          <p:blipFill>
            <a:blip r:embed="rId2"/>
            <a:stretch/>
          </p:blipFill>
          <p:spPr>
            <a:xfrm>
              <a:off x="1582560" y="3563640"/>
              <a:ext cx="6113520" cy="27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Rectangle 2"/>
          <p:cNvSpPr/>
          <p:nvPr/>
        </p:nvSpPr>
        <p:spPr>
          <a:xfrm>
            <a:off x="30492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the Highest Value Stored in a 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83B5-BA2B-4F48-BD25-5042A182F10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pda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les manager at Jillian Company wants a function that increases the price of each item company sell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stores prices in a one-dimensional arr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hen, increase value stored in each elemen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lso, display each item’s new price on scree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0966-0E42-45D6-88EF-9666D9114C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582560" y="1203480"/>
            <a:ext cx="5961240" cy="49687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pda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A7B1-CA4D-4459-A95A-13C9700AAA5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ranging data in a specific order is called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or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cending or descending or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bble sort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is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quick and easy (for small array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jacent elements that are out of order are swapp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373040" y="3733920"/>
            <a:ext cx="6397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459E-BA5A-47A6-AF26-B58DFF6F60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2544840" y="1015920"/>
            <a:ext cx="4084560" cy="53085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4F43-7426-4FF3-93B7-B26A8814110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658880" y="1092240"/>
            <a:ext cx="5808600" cy="334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1735200" y="4495680"/>
            <a:ext cx="5580000" cy="16304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4C5C-2F11-4418-BC8D-6F15D97B3DE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353960" y="1179360"/>
            <a:ext cx="6436080" cy="224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1353960" y="3625920"/>
            <a:ext cx="6436080" cy="25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1228-5676-4E30-8619-F6E2FAAFC1D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06600" y="1082520"/>
            <a:ext cx="5884920" cy="2633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1447920" y="3724200"/>
            <a:ext cx="5960880" cy="2676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73B1-6966-4DF8-98A9-A1BE5CC281F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clare and initialize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ter data into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arch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tilize a one-dimensional array in a .NET C++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B3C9-68A5-4FE2-8B4A-574B4D8F774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752480" y="1220760"/>
            <a:ext cx="5521320" cy="2513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1811160" y="3809880"/>
            <a:ext cx="5351760" cy="2509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FA86-36E7-485F-AF41-27D8B09EFA3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798560" y="1125360"/>
            <a:ext cx="5211720" cy="2455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1816200" y="3657600"/>
            <a:ext cx="5194080" cy="2654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DA88-990E-481F-A604-2E196599C1A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677960" y="1098720"/>
            <a:ext cx="5789520" cy="3701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1373040" y="4876920"/>
            <a:ext cx="6397920" cy="1385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5335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rting the Values Stored in a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8AD3-40BD-4704-8DDE-B587B9FE152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a One-Dimensional Array to a Fun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default, scalar variables are passed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pass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by reference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address-of (&amp;) operator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rays in C++ are passed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re efficient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dress of first element is passed to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dress-of operator is not u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8278-A85A-4BDB-9E81-02C639C7CB8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990720" y="1143000"/>
            <a:ext cx="5870520" cy="5028840"/>
            <a:chOff x="990720" y="1143000"/>
            <a:chExt cx="5870520" cy="5028840"/>
          </a:xfrm>
        </p:grpSpPr>
        <p:pic>
          <p:nvPicPr>
            <p:cNvPr id="236" name="Picture 5" descr=""/>
            <p:cNvPicPr/>
            <p:nvPr/>
          </p:nvPicPr>
          <p:blipFill>
            <a:blip r:embed="rId1"/>
            <a:stretch/>
          </p:blipFill>
          <p:spPr>
            <a:xfrm>
              <a:off x="990720" y="1264680"/>
              <a:ext cx="5870520" cy="490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6"/>
            <p:cNvSpPr/>
            <p:nvPr/>
          </p:nvSpPr>
          <p:spPr>
            <a:xfrm>
              <a:off x="993240" y="1143000"/>
              <a:ext cx="1222200" cy="61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a One-Dimensional Array to a Function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9755-74A2-40D7-A53E-976D29D40A2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Parallel One-Dimensional Array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koda Tapahe wants a program that displays the price of the item whose product ID she en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919240" y="3162240"/>
            <a:ext cx="33037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2046-0025-4032-A65F-B00C6CA7643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Parallel One-Dimensional Array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arallel array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e two or more arrays whose elements are related by their position in the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lated by their subscrip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2470320" y="3581280"/>
            <a:ext cx="4203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E05F-D08B-4A90-809F-33E517B1045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Group 10"/>
          <p:cNvGrpSpPr/>
          <p:nvPr/>
        </p:nvGrpSpPr>
        <p:grpSpPr>
          <a:xfrm>
            <a:off x="1924200" y="1066680"/>
            <a:ext cx="5467320" cy="5181840"/>
            <a:chOff x="1924200" y="1066680"/>
            <a:chExt cx="5467320" cy="5181840"/>
          </a:xfrm>
        </p:grpSpPr>
        <p:pic>
          <p:nvPicPr>
            <p:cNvPr id="252" name="Picture 6" descr=""/>
            <p:cNvPicPr/>
            <p:nvPr/>
          </p:nvPicPr>
          <p:blipFill>
            <a:blip r:embed="rId1"/>
            <a:stretch/>
          </p:blipFill>
          <p:spPr>
            <a:xfrm>
              <a:off x="1924200" y="1127880"/>
              <a:ext cx="5292360" cy="475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" descr=""/>
            <p:cNvPicPr/>
            <p:nvPr/>
          </p:nvPicPr>
          <p:blipFill>
            <a:blip r:embed="rId2"/>
            <a:stretch/>
          </p:blipFill>
          <p:spPr>
            <a:xfrm>
              <a:off x="1938600" y="5870880"/>
              <a:ext cx="420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8"/>
            <p:cNvSpPr/>
            <p:nvPr/>
          </p:nvSpPr>
          <p:spPr>
            <a:xfrm>
              <a:off x="6983280" y="4937400"/>
              <a:ext cx="408240" cy="73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>
              <a:off x="6108480" y="1066680"/>
              <a:ext cx="1283040" cy="73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Parallel One-Dimensional Array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3166-2687-43C6-8A1F-840B1E62429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Group 7"/>
          <p:cNvGrpSpPr/>
          <p:nvPr/>
        </p:nvGrpSpPr>
        <p:grpSpPr>
          <a:xfrm>
            <a:off x="2027160" y="1219320"/>
            <a:ext cx="5211360" cy="5055840"/>
            <a:chOff x="2027160" y="1219320"/>
            <a:chExt cx="5211360" cy="5055840"/>
          </a:xfrm>
        </p:grpSpPr>
        <p:pic>
          <p:nvPicPr>
            <p:cNvPr id="260" name="Picture 6" descr=""/>
            <p:cNvPicPr/>
            <p:nvPr/>
          </p:nvPicPr>
          <p:blipFill>
            <a:blip r:embed="rId1"/>
            <a:stretch/>
          </p:blipFill>
          <p:spPr>
            <a:xfrm>
              <a:off x="2032920" y="2441880"/>
              <a:ext cx="5205600" cy="38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4" descr=""/>
            <p:cNvPicPr/>
            <p:nvPr/>
          </p:nvPicPr>
          <p:blipFill>
            <a:blip r:embed="rId2"/>
            <a:stretch/>
          </p:blipFill>
          <p:spPr>
            <a:xfrm>
              <a:off x="2027160" y="1376280"/>
              <a:ext cx="4956480" cy="10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5" descr=""/>
            <p:cNvPicPr/>
            <p:nvPr/>
          </p:nvPicPr>
          <p:blipFill>
            <a:blip r:embed="rId3"/>
            <a:stretch/>
          </p:blipFill>
          <p:spPr>
            <a:xfrm>
              <a:off x="2034360" y="1219320"/>
              <a:ext cx="498456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Parallel One-Dimensional Array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AF81-4099-417F-9CDF-244D35C4F6F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wo-Dimensional Array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Two-dimensional array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resembles a ta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lements are in rows and colum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element is identified by two subscrip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ubscripts specify the variable’s row and column position in the arra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487600" y="4025880"/>
            <a:ext cx="4167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F085-BD68-488A-89DB-C2355F1644E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-Dimensional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toring Data in a One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ipulating One-Dimensional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ing a One-Dimensional Array to a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B7DF-92AE-4F63-B37F-DC8ED1C9738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353960" y="1095480"/>
            <a:ext cx="6436080" cy="5229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533520" y="3049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wo-Dimensional Array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C820-863D-4F84-8F79-AA5CA86B3F1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wo-Dimensional Array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1353960" y="2057400"/>
            <a:ext cx="6436080" cy="1521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1390680" y="4189320"/>
            <a:ext cx="539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C416-DF86-4200-BF1D-92AED3BE642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Two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use an assignment statement to enter data into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use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gt;&gt;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getline(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wo loops to access every element in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 loop tracks row subscrip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ther loop tracks column subscrip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6564-4155-4AD5-B696-9E1C8C4A9DE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752480" y="1198440"/>
            <a:ext cx="5330880" cy="50500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Two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D5EB-5DB6-4414-AAA7-111F86BD98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Two-Dimensional Arra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1353960" y="2205000"/>
            <a:ext cx="64342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AEAA-5F03-45D3-BCDB-9532748F992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6"/>
          <p:cNvGrpSpPr/>
          <p:nvPr/>
        </p:nvGrpSpPr>
        <p:grpSpPr>
          <a:xfrm>
            <a:off x="1582560" y="1446120"/>
            <a:ext cx="6037560" cy="4802040"/>
            <a:chOff x="1582560" y="1446120"/>
            <a:chExt cx="6037560" cy="4802040"/>
          </a:xfrm>
        </p:grpSpPr>
        <p:pic>
          <p:nvPicPr>
            <p:cNvPr id="293" name="Picture 4" descr=""/>
            <p:cNvPicPr/>
            <p:nvPr/>
          </p:nvPicPr>
          <p:blipFill>
            <a:blip r:embed="rId1"/>
            <a:stretch/>
          </p:blipFill>
          <p:spPr>
            <a:xfrm>
              <a:off x="1582560" y="1446120"/>
              <a:ext cx="6037560" cy="24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5" descr=""/>
            <p:cNvPicPr/>
            <p:nvPr/>
          </p:nvPicPr>
          <p:blipFill>
            <a:blip r:embed="rId2"/>
            <a:stretch/>
          </p:blipFill>
          <p:spPr>
            <a:xfrm>
              <a:off x="1582560" y="3846240"/>
              <a:ext cx="6037560" cy="240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Rectangle 4"/>
          <p:cNvSpPr/>
          <p:nvPr/>
        </p:nvSpPr>
        <p:spPr>
          <a:xfrm>
            <a:off x="533520" y="1522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Two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637D-0186-4C8C-85C5-C210E8FA138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Two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wo one-dimensional (parallel) arrays can be replaced with one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BFE3-DE48-46AC-AEB0-60690228933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Group 11"/>
          <p:cNvGrpSpPr/>
          <p:nvPr/>
        </p:nvGrpSpPr>
        <p:grpSpPr>
          <a:xfrm>
            <a:off x="1168560" y="1219320"/>
            <a:ext cx="6984360" cy="5104800"/>
            <a:chOff x="1168560" y="1219320"/>
            <a:chExt cx="6984360" cy="5104800"/>
          </a:xfrm>
        </p:grpSpPr>
        <p:pic>
          <p:nvPicPr>
            <p:cNvPr id="303" name="Picture 5" descr=""/>
            <p:cNvPicPr/>
            <p:nvPr/>
          </p:nvPicPr>
          <p:blipFill>
            <a:blip r:embed="rId1"/>
            <a:stretch/>
          </p:blipFill>
          <p:spPr>
            <a:xfrm>
              <a:off x="1193760" y="1219320"/>
              <a:ext cx="6772320" cy="46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6" descr=""/>
            <p:cNvPicPr/>
            <p:nvPr/>
          </p:nvPicPr>
          <p:blipFill>
            <a:blip r:embed="rId2"/>
            <a:stretch/>
          </p:blipFill>
          <p:spPr>
            <a:xfrm>
              <a:off x="1168560" y="5920560"/>
              <a:ext cx="5298120" cy="4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7"/>
            <p:cNvSpPr/>
            <p:nvPr/>
          </p:nvSpPr>
          <p:spPr>
            <a:xfrm>
              <a:off x="7707240" y="4948920"/>
              <a:ext cx="445680" cy="61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8"/>
            <p:cNvSpPr/>
            <p:nvPr/>
          </p:nvSpPr>
          <p:spPr>
            <a:xfrm>
              <a:off x="6496920" y="1219320"/>
              <a:ext cx="1592280" cy="61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10"/>
            <p:cNvSpPr/>
            <p:nvPr/>
          </p:nvSpPr>
          <p:spPr>
            <a:xfrm>
              <a:off x="1401840" y="5916960"/>
              <a:ext cx="12708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Two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73D6-1048-45D1-8C34-F729F61A2B6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Group 11"/>
          <p:cNvGrpSpPr/>
          <p:nvPr/>
        </p:nvGrpSpPr>
        <p:grpSpPr>
          <a:xfrm>
            <a:off x="1959120" y="1219320"/>
            <a:ext cx="5127120" cy="4952520"/>
            <a:chOff x="1959120" y="1219320"/>
            <a:chExt cx="5127120" cy="4952520"/>
          </a:xfrm>
        </p:grpSpPr>
        <p:pic>
          <p:nvPicPr>
            <p:cNvPr id="312" name="Picture 6" descr=""/>
            <p:cNvPicPr/>
            <p:nvPr/>
          </p:nvPicPr>
          <p:blipFill>
            <a:blip r:embed="rId1"/>
            <a:stretch/>
          </p:blipFill>
          <p:spPr>
            <a:xfrm>
              <a:off x="1959120" y="1366920"/>
              <a:ext cx="4988520" cy="12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7" descr=""/>
            <p:cNvPicPr/>
            <p:nvPr/>
          </p:nvPicPr>
          <p:blipFill>
            <a:blip r:embed="rId2"/>
            <a:stretch/>
          </p:blipFill>
          <p:spPr>
            <a:xfrm>
              <a:off x="1963080" y="1243440"/>
              <a:ext cx="4960440" cy="13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8" descr=""/>
            <p:cNvPicPr/>
            <p:nvPr/>
          </p:nvPicPr>
          <p:blipFill>
            <a:blip r:embed="rId3"/>
            <a:stretch/>
          </p:blipFill>
          <p:spPr>
            <a:xfrm>
              <a:off x="1959120" y="2652480"/>
              <a:ext cx="4988520" cy="35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0" descr=""/>
            <p:cNvPicPr/>
            <p:nvPr/>
          </p:nvPicPr>
          <p:blipFill>
            <a:blip r:embed="rId4"/>
            <a:stretch/>
          </p:blipFill>
          <p:spPr>
            <a:xfrm>
              <a:off x="6702840" y="1219320"/>
              <a:ext cx="383400" cy="208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Two-Dimensional Arra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47E3-B8F2-4ECC-8454-076ABCE95F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Two-Dimensional Arra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958680" y="2664000"/>
            <a:ext cx="72266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3B83-C300-4A75-8EF9-C55001AB43E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Parallel One-Dimensional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wo-Dimensional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toring Data in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arching a Two-Dimensional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7F44-ECF5-4F87-8B96-DFA931C95A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 array is a group of variables that have the same name and data type and are related in some w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-dimension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Visualize as a column of variabl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wo-dimension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Visualize as a tab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must declare an array before you can use 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ch elements in a one-dimensional array is assigned a subscrip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rst element has subscript 0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BAF4-118F-4471-985E-F063F83D1FC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rallel arrays are two or more arrays whose elements are related by their subscript in the array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create a two-dimensional array specify the number of rows and colum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element is identified by two subscrip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First subscript represents the element’s row loc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econd subscript represents its column loc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wo loops to access every element in a two-dimensional array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FB66-7BE0-4464-B2EA-D6B27E19A66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Arrays in a C++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1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1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gram should either display the monthly rainfall amounts on the screen or calculate and display the total rainfall amou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1.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dified program will use a value-returning function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calcTotal()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 to calculate the total rainfall amou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1.4: Desk-Check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1.5: Debugging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BF2F-5666-414B-9FC7-3BBD7A55E4A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Array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imple variabl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s unrelated to other variables in computer’s internal mem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called a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calar vari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rray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s a group of variab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me name and data typ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ariables are related in some w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st commonly u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One-dimensional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hree-dimensional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C05A-5F9A-475D-8B56-83469715D59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Visualize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one-dimensional array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s a column of variab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8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ubscript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(or index) identifies each vari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dicates the variable’s position in the arra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ubscript of first variable is 0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lnSpc>
                <a:spcPct val="98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lnSpc>
                <a:spcPct val="98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lnSpc>
                <a:spcPct val="98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lnSpc>
                <a:spcPct val="98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gin by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opulating the array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o it does not contain garb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2541600" y="3821040"/>
            <a:ext cx="4632840" cy="1573200"/>
            <a:chOff x="2541600" y="3821040"/>
            <a:chExt cx="4632840" cy="1573200"/>
          </a:xfrm>
        </p:grpSpPr>
        <p:pic>
          <p:nvPicPr>
            <p:cNvPr id="115" name="Picture 4" descr=""/>
            <p:cNvPicPr/>
            <p:nvPr/>
          </p:nvPicPr>
          <p:blipFill>
            <a:blip r:embed="rId1"/>
            <a:stretch/>
          </p:blipFill>
          <p:spPr>
            <a:xfrm>
              <a:off x="2541600" y="3873240"/>
              <a:ext cx="405936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Line 5"/>
            <p:cNvSpPr/>
            <p:nvPr/>
          </p:nvSpPr>
          <p:spPr>
            <a:xfrm flipH="1">
              <a:off x="5562720" y="40258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6004800" y="382104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le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929C-9D82-4D57-A6D7-8933230EB09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968480" y="779400"/>
            <a:ext cx="5346720" cy="54691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533520" y="1522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ne-Dimensional Array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25EB-FEC9-4650-8DF5-1C6EED4C5AB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toring Data in a One-Dimensional Arra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use an assignment statement to enter data into an arr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e Figure 11-3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us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  <a:ea typeface="Courier New"/>
              </a:rPr>
              <a:t>&gt;&gt;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getline(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e Figure 11-4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7-03-27T23:54:22Z</dcterms:modified>
  <cp:revision>516</cp:revision>
  <dc:subject/>
  <dc:title>Chapter 11</dc:title>
</cp:coreProperties>
</file>