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A978-1938-4930-997A-A692FBA04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B3D9-4850-46E0-86A3-AF932DEA6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AD8-53D0-43E0-9D25-44A6B74B7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B21-CCD7-4BD2-9603-EFAA52B2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050-EFA5-418D-89DA-2A1AE4B7C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3B11-7B8E-4B98-B06E-29C4B6827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CC5B-4BA0-4464-9503-48B843B60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AF1FF-0933-419B-A2AE-1A560B2A4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B7F3-BCC5-4CB7-B14F-7862ACBE3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27A2-6188-4D4F-8552-38993884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749C9-622C-463A-A767-9520BCD2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420F-F384-45B0-A46C-820DAB0A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7C3D1-A9CB-417A-943E-AB0E6351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7FAB6-0CD5-4024-BC2C-75EECC0B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1FCB-F530-484E-B792-D0C38CAD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1715-4719-4EEA-9797-134E446F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5D23-F652-40A4-91B3-28F0052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F673-C3B6-4182-A360-6BE555DBC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03325-3D1A-4359-BB9A-D18AD80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8B4F4-FD2C-4A60-960B-1D8AFDC6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B345D-08A7-4DA0-BB71-6D9ABF73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5D3D8-9EFB-4CD9-B07A-C6072316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61E93-2B7B-4089-9974-B78C03E6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1334-68C4-46AD-9EC2-0798EC56B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66FB-5517-40E7-8379-DBE340545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472B7-012C-43BA-865F-6A65EECA7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DFFF-3CF1-4AA6-B315-272948053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B4FC1-3114-4DD6-8A86-B1F3E0A4D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9CF4-E844-4D6C-9EF2-BC4CC6920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CB89-6C91-443C-9550-BC742B2DA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9C91-133E-4543-AA20-F47830B911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872-9712-48B1-B803-BEB5481A8AC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2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String Manipulation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D3D4-7DA1-48AE-8FDD-1DA0E63FDF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ving Characters from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erase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emove one or more characters located anywhere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ntax in Figure 12-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ubscript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count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guments can be numeric literal constants or the names of numeric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6A7C-EFAF-4135-8A1A-E0FC31ABFA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58880" y="1295280"/>
            <a:ext cx="5961240" cy="4953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ving Characters from a String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60D-39C5-474B-9AB6-52FDAD1094D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need to determine whether a specific letter appears as the third character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, you may need to display only the string’s first five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substr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access any number of characters contained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bstr” stands for “substring”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3CA-0E86-4739-B1E7-8BAC818B5F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353960" y="2438280"/>
            <a:ext cx="6436080" cy="2916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14E-AF46-4626-ABC4-BB9355EB23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353960" y="1936800"/>
            <a:ext cx="64360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E0B1-3C23-429A-9D61-C86681715A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placing Characters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replace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eplace a sequence of characters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 with another sequence of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ntax in Figure 12-4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replacementString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be a string literal constant or the name of a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E0D-F877-44CE-9E25-7FCAA8D96E1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373040" y="1833480"/>
            <a:ext cx="6397920" cy="4338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placing Characters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322-184D-41CB-9CCA-4D6AC8A823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erting Characters with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insert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s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353960" y="2438280"/>
            <a:ext cx="6436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0D05-5EEE-4CBA-8599-3C5D8FC2FE9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find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search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 to determine if it contains a sequence of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1353960" y="3121200"/>
            <a:ext cx="6436080" cy="2745720"/>
            <a:chOff x="1353960" y="3121200"/>
            <a:chExt cx="6436080" cy="2745720"/>
          </a:xfrm>
        </p:grpSpPr>
        <p:pic>
          <p:nvPicPr>
            <p:cNvPr id="164" name="Picture 4" descr=""/>
            <p:cNvPicPr/>
            <p:nvPr/>
          </p:nvPicPr>
          <p:blipFill>
            <a:blip r:embed="rId1"/>
            <a:stretch/>
          </p:blipFill>
          <p:spPr>
            <a:xfrm>
              <a:off x="1353960" y="3121200"/>
              <a:ext cx="643608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"/>
            <p:cNvPicPr/>
            <p:nvPr/>
          </p:nvPicPr>
          <p:blipFill>
            <a:blip r:embed="rId2"/>
            <a:stretch/>
          </p:blipFill>
          <p:spPr>
            <a:xfrm>
              <a:off x="1353960" y="5327640"/>
              <a:ext cx="6436080" cy="5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FC7-97F9-4813-BD6F-C7F60BACE9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1658880" y="1066680"/>
            <a:ext cx="5961240" cy="5181480"/>
            <a:chOff x="1658880" y="1066680"/>
            <a:chExt cx="5961240" cy="5181480"/>
          </a:xfrm>
        </p:grpSpPr>
        <p:pic>
          <p:nvPicPr>
            <p:cNvPr id="169" name="Picture 4" descr=""/>
            <p:cNvPicPr/>
            <p:nvPr/>
          </p:nvPicPr>
          <p:blipFill>
            <a:blip r:embed="rId1"/>
            <a:stretch/>
          </p:blipFill>
          <p:spPr>
            <a:xfrm>
              <a:off x="1675080" y="1066680"/>
              <a:ext cx="5927040" cy="1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"/>
            <p:cNvPicPr/>
            <p:nvPr/>
          </p:nvPicPr>
          <p:blipFill>
            <a:blip r:embed="rId2"/>
            <a:stretch/>
          </p:blipFill>
          <p:spPr>
            <a:xfrm>
              <a:off x="1658880" y="1226880"/>
              <a:ext cx="5961240" cy="502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String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BB2-BD07-45BE-9211-872B7FAC4C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e the number of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move characters from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ss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lace characters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175-9A00-4E5D-B93F-606E982646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comparison operators to compare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!=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while (name != "DONE"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ompare a portion of one string with another string, 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compare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B03-3A4A-42B4-8D88-CC2838C645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353960" y="1992240"/>
            <a:ext cx="6436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6A9-0DD8-45CE-9039-34C0A4895B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353960" y="1562040"/>
            <a:ext cx="6436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533-CDD5-4C34-B847-80BEFAB87C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uplicating a Character within a String Variab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assign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duplicate a character a specified number of tim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306F-0500-4F11-8715-5543E7F300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uplicating a Character within a String Variabl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17600" y="2057400"/>
            <a:ext cx="6507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195-3E33-41D1-8FB9-CB44041E4F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atenating String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necting (or linking) strings together is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catena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, you concatenate strings using 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catenation oper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+ sig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CD57-BCEA-4F47-9E92-D313BACAF82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517840" y="992160"/>
            <a:ext cx="643572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47840" y="4572000"/>
            <a:ext cx="439920" cy="457200"/>
          </a:xfrm>
          <a:custGeom>
            <a:avLst/>
            <a:gdLst>
              <a:gd name="textAreaLeft" fmla="*/ 281160 w 439920"/>
              <a:gd name="textAreaRight" fmla="*/ 440280 w 439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7160" y="4495680"/>
            <a:ext cx="2283840" cy="6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s easier to u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yphens.assign(5, '-'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atenating String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5526-D2BA-4EC8-8F70-C26D56AE91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ring manipulation is a common programming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353960" y="2935440"/>
            <a:ext cx="6434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0B48-46BB-4ACA-8707-4F20DF016D7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709640" y="990720"/>
            <a:ext cx="5986440" cy="5257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131-5403-4B55-8B68-789EDD3697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String Manipulation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that allows two students to play a simplified version of the Hangman Game on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program so that it allows player 1 to enter a word of any length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4685-BBDB-4B69-9605-F136022B63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 a string for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re a portion of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’s contents to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plicate a character with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catenate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form string manipulation in .NET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8A7D-D33F-4AFC-83C5-EAEE410E98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ing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ing the Number of Characters 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moving Characters from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ssing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lacing Characters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374-620A-4CC2-96CB-0E28BE8E245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ing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ing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ring a Portion of a String with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plicating a Character within a String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catenating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C6E-B03D-4C97-A80D-05716898C8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ipulating String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 often need to manipulate string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erify that an inventory part number begins with a specific lett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termine whether the last three characters in an employee number are vali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B8B-5216-4DCD-98B7-5F23038CEA1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length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determine the number of characters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size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yntax: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tring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.size(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8940-4151-45BA-953B-9F1521F4A2E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1353960" y="1752480"/>
            <a:ext cx="6436080" cy="4470120"/>
            <a:chOff x="1353960" y="1752480"/>
            <a:chExt cx="6436080" cy="44701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353960" y="1752480"/>
              <a:ext cx="6436080" cy="39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"/>
            <p:cNvPicPr/>
            <p:nvPr/>
          </p:nvPicPr>
          <p:blipFill>
            <a:blip r:embed="rId2"/>
            <a:stretch/>
          </p:blipFill>
          <p:spPr>
            <a:xfrm>
              <a:off x="1371600" y="5673600"/>
              <a:ext cx="6399360" cy="54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D6B7-7791-4483-BCE4-570CD1C88EA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353960" y="2085840"/>
            <a:ext cx="6481800" cy="3857760"/>
            <a:chOff x="1353960" y="2085840"/>
            <a:chExt cx="6481800" cy="3857760"/>
          </a:xfrm>
        </p:grpSpPr>
        <p:pic>
          <p:nvPicPr>
            <p:cNvPr id="124" name="Picture 5" descr=""/>
            <p:cNvPicPr/>
            <p:nvPr/>
          </p:nvPicPr>
          <p:blipFill>
            <a:blip r:embed="rId1"/>
            <a:stretch/>
          </p:blipFill>
          <p:spPr>
            <a:xfrm>
              <a:off x="1360440" y="2085840"/>
              <a:ext cx="6475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"/>
            <p:cNvPicPr/>
            <p:nvPr/>
          </p:nvPicPr>
          <p:blipFill>
            <a:blip r:embed="rId2"/>
            <a:stretch/>
          </p:blipFill>
          <p:spPr>
            <a:xfrm>
              <a:off x="1353960" y="2271600"/>
              <a:ext cx="6436080" cy="36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3:40Z</dcterms:modified>
  <cp:revision>475</cp:revision>
  <dc:subject/>
  <dc:title>Chapter 12</dc:title>
</cp:coreProperties>
</file>