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5D00-051F-4C62-9CBE-BC2DBB6D8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F4A-A287-4595-ADCE-D42A7312E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4E3-29F8-4A7A-889D-0CB3647C2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38CD-F825-4D6E-8C23-2BB4D738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7DF-B6B8-4AAD-BE2A-84AD22D5A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E00B-4AD2-4F60-9DC9-88943156D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654D-CD2F-4A90-AD35-B1A436134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4D94-F21F-416D-99BD-9833BF40B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25A3-3264-41EE-987C-E88E8EB4A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4FC69-C6AE-41E8-BF48-F9A25B006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3C71F-46E2-4613-8928-1E258CD6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8F72-BD5F-4575-B170-5D76CDB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A37A6-7523-40F0-B2B4-A1D1792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30649-6F6E-4EA6-AF25-8D8D4788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CB10-36A5-4A5E-8E90-DCAA5C9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78ABB-01B7-4F70-B8C7-DDC006FF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B5439-7B8B-4EA5-BAF1-FC41050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F005-AE10-4D52-AA1D-695231DAE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A8763-15D3-4D7C-9848-534AAFD7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6E846-03C1-427A-BBF6-D3D1992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A2F53-3385-4629-BDE4-F3F92801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F0140-D8D5-47A5-BC4E-5052A7FA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708AE-FBD7-4AD9-92B3-01C6ABAC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33A22-04B5-4344-A73A-C06779375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74C6-094B-46BC-B1DE-D62E919C2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33B1-CCC6-49C2-A21D-8FE466480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BE03-658A-47FB-8BE7-19606F4C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BBB93-BD41-4BA8-9EE1-8B8D89CCF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5455-F05F-4B58-85F4-023D6D922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FCF7-D710-46EB-BC3F-3A4F7DC3A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D76-2C9F-4CB4-BB81-CE6443072C7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EEF6-8F9C-48FD-98DE-EF29CCE9240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2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String Manipulation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6212-3B91-494F-B9E7-A353161A22C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moving Characters from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erase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remove one or more characters located anywhere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ntax in Figure 12-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ubscript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count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rguments can be numeric literal constants or the names of numeric variabl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DDF3-8D29-4CBF-A15E-D658DC571E0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58880" y="1295280"/>
            <a:ext cx="5961240" cy="4953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moving Characters from a String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4ED1-8E40-48E9-9C9F-46170158345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Characters Contained 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ay need to determine whether a specific letter appears as the third character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, you may need to display only the string’s first five charac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substr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access any number of characters contained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bstr” stands for “substring”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3CB-6494-48D5-9E5A-F852744E27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353960" y="2438280"/>
            <a:ext cx="6436080" cy="29163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89E0-7CEA-4BE4-A7A7-71C6B213C5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essing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353960" y="1936800"/>
            <a:ext cx="643608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9D42-B2E0-451D-A58F-7F9B95F1AFB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placing Characters 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replace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replace a sequence of characters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 with another sequence of charac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ntax in Figure 12-4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replacementString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be a string literal constant or the name of a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9982-83D3-4780-BE44-BE0D457D35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373040" y="1833480"/>
            <a:ext cx="6397920" cy="4338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placing Characters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9026-20A2-4C10-A8F0-1542D1AC42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serting Characters with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2222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insert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erts characters with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353960" y="2438280"/>
            <a:ext cx="6436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D17F-3580-4FD3-8A0B-116076DD2B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find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search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 to determine if it contains a sequence of charac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1353960" y="3121200"/>
            <a:ext cx="6436080" cy="2745720"/>
            <a:chOff x="1353960" y="3121200"/>
            <a:chExt cx="6436080" cy="2745720"/>
          </a:xfrm>
        </p:grpSpPr>
        <p:pic>
          <p:nvPicPr>
            <p:cNvPr id="164" name="Picture 4" descr=""/>
            <p:cNvPicPr/>
            <p:nvPr/>
          </p:nvPicPr>
          <p:blipFill>
            <a:blip r:embed="rId1"/>
            <a:stretch/>
          </p:blipFill>
          <p:spPr>
            <a:xfrm>
              <a:off x="1353960" y="3121200"/>
              <a:ext cx="6436080" cy="21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"/>
            <p:cNvPicPr/>
            <p:nvPr/>
          </p:nvPicPr>
          <p:blipFill>
            <a:blip r:embed="rId2"/>
            <a:stretch/>
          </p:blipFill>
          <p:spPr>
            <a:xfrm>
              <a:off x="1353960" y="5327640"/>
              <a:ext cx="6436080" cy="53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CB3A-99A3-4BFB-BBC9-966468B5D8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1658880" y="1066680"/>
            <a:ext cx="5961240" cy="5181480"/>
            <a:chOff x="1658880" y="1066680"/>
            <a:chExt cx="5961240" cy="5181480"/>
          </a:xfrm>
        </p:grpSpPr>
        <p:pic>
          <p:nvPicPr>
            <p:cNvPr id="169" name="Picture 4" descr=""/>
            <p:cNvPicPr/>
            <p:nvPr/>
          </p:nvPicPr>
          <p:blipFill>
            <a:blip r:embed="rId1"/>
            <a:stretch/>
          </p:blipFill>
          <p:spPr>
            <a:xfrm>
              <a:off x="1675080" y="1066680"/>
              <a:ext cx="5927040" cy="1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5" descr=""/>
            <p:cNvPicPr/>
            <p:nvPr/>
          </p:nvPicPr>
          <p:blipFill>
            <a:blip r:embed="rId2"/>
            <a:stretch/>
          </p:blipFill>
          <p:spPr>
            <a:xfrm>
              <a:off x="1658880" y="1226880"/>
              <a:ext cx="5961240" cy="502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Rectangle 2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arching a String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27B-EC10-42F6-8B12-4C8D4DFBAD5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e the number of characters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move characters from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ss characters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place characters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ert characters with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6E26-F31C-4341-AC7C-39CBC29224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ring a Portion of a String with Another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comparison operators to compare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gt;=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lt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lt;=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!=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while (name != "DONE"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ompare a portion of one string with another string, 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compare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B1E0-1F07-499E-A0EA-C85AC7B4318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ring a Portion of a String with Another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353960" y="1992240"/>
            <a:ext cx="6436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55A-DBB5-43B9-B8E5-692198AC8BB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ring a Portion of a String with Another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353960" y="1562040"/>
            <a:ext cx="64360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E709-11DF-4D24-9CDE-B4BC0B0380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uplicating a Character within a String Variabl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assign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duplicate a character a specified number of tim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A398-9BB1-4A70-8CD9-9F50A71E866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uplicating a Character within a String Variabl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317600" y="2057400"/>
            <a:ext cx="6507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5588-C96D-4EAC-B403-340B872CB3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atenating String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necting (or linking) strings together is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catena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C++, you concatenate strings using 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catenation oper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+ sig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CEC3-18EB-4193-A6C2-5986CF3C5B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517840" y="992160"/>
            <a:ext cx="643572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47840" y="4572000"/>
            <a:ext cx="439920" cy="457200"/>
          </a:xfrm>
          <a:custGeom>
            <a:avLst/>
            <a:gdLst>
              <a:gd name="textAreaLeft" fmla="*/ 281160 w 439920"/>
              <a:gd name="textAreaRight" fmla="*/ 440280 w 439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7160" y="4495680"/>
            <a:ext cx="2283840" cy="6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is easier to u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hyphens.assign(5, '-'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atenating String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4C2-8564-428D-97E2-12D628E883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tring manipulation is a common programming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353960" y="2935440"/>
            <a:ext cx="64342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80FF-F170-42E3-9BE4-5CE9738CA61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709640" y="990720"/>
            <a:ext cx="5986440" cy="5257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533520" y="1522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5521-38C1-4C26-889E-FB3B0BB276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String Manipulation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 that allows two students to play a simplified version of the Hangman Game on the compu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y program so that it allows player 1 to enter a word of any length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2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119-7CD0-453E-B751-E9757597C4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 a string for another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re a portion of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’s contents to another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plicate a character with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catenate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form string manipulation in .NET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8450-0FBE-4910-94AB-9CC865FFD5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ipulating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ing the Number of Characters 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moving Characters from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ssing Characters Contained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placing Characters 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42BE-AB67-4499-85CA-1E97CAA3A2C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erting Characters within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arching a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ring a Portion of a String with Another St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plicating a Character within a String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catenating String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2DD5-D47B-460E-9344-380358B88A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ipulating String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s often need to manipulate string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Verify that an inventory part number begins with a specific lett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termine whether the last three characters in an employee number are vali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F7EA-2FC8-4644-82FD-EBC49A1C85F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Number of Characters Contained in a St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length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determine the number of characters in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str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variab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us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size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yntax: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tring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.size(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CFE4-2917-4879-93FA-D38531C916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1353960" y="1752480"/>
            <a:ext cx="6436080" cy="4470120"/>
            <a:chOff x="1353960" y="1752480"/>
            <a:chExt cx="6436080" cy="44701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353960" y="1752480"/>
              <a:ext cx="6436080" cy="39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7" descr=""/>
            <p:cNvPicPr/>
            <p:nvPr/>
          </p:nvPicPr>
          <p:blipFill>
            <a:blip r:embed="rId2"/>
            <a:stretch/>
          </p:blipFill>
          <p:spPr>
            <a:xfrm>
              <a:off x="1371600" y="5673600"/>
              <a:ext cx="6399360" cy="54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Number of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1EE7-AD2B-4541-8B7B-2ED3D1125CB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ermining the Number of Characters Contained in a Str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353960" y="2085840"/>
            <a:ext cx="6481800" cy="3857760"/>
            <a:chOff x="1353960" y="2085840"/>
            <a:chExt cx="6481800" cy="3857760"/>
          </a:xfrm>
        </p:grpSpPr>
        <p:pic>
          <p:nvPicPr>
            <p:cNvPr id="124" name="Picture 5" descr=""/>
            <p:cNvPicPr/>
            <p:nvPr/>
          </p:nvPicPr>
          <p:blipFill>
            <a:blip r:embed="rId1"/>
            <a:stretch/>
          </p:blipFill>
          <p:spPr>
            <a:xfrm>
              <a:off x="1360440" y="2085840"/>
              <a:ext cx="6475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6" descr=""/>
            <p:cNvPicPr/>
            <p:nvPr/>
          </p:nvPicPr>
          <p:blipFill>
            <a:blip r:embed="rId2"/>
            <a:stretch/>
          </p:blipFill>
          <p:spPr>
            <a:xfrm>
              <a:off x="1353960" y="2271600"/>
              <a:ext cx="6436080" cy="36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27T23:53:40Z</dcterms:modified>
  <cp:revision>475</cp:revision>
  <dc:subject/>
  <dc:title>Chapter 12</dc:title>
</cp:coreProperties>
</file>