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A9D-942F-47DE-809E-B1E75385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E84-C712-413B-AB2A-98F56D0A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FF3-684C-49F1-B51C-759D0C46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64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8000" y="198432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64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8000" y="4161960"/>
            <a:ext cx="26654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F6D-8FF5-49F5-A21C-2886F4B8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A25-276F-451F-B493-FE935D27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E64-CB5F-48F3-BCC8-C7223F1A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50F-D7D1-44CC-8B88-8ED2B8D8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FEF-BF21-4D3C-87FF-376B4E87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3680"/>
            <a:ext cx="86392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CB8-F88C-4FBD-A611-FF0972D7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298-EE8D-46E6-97E5-7D830E65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880" y="416196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431-1D69-40C4-AC88-A5A737F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880" y="1984320"/>
            <a:ext cx="4039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161960"/>
            <a:ext cx="827892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D7B-7643-4151-A1A0-739A2F6A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A951C-EC4C-421F-9156-9D465AB29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0720" y="554040"/>
            <a:ext cx="864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 Sec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e – assets and liabilities left by a deceased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te planning – process of making legal and financial arrangements about how property should be hand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– legal document that directs how the estate is to be distributed aft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5000" indent="-63972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or – individual in charge of handling the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More Key Term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ary – person/group designated to receive some or all of a deceased person's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ate – person who dies without a valid will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rust – transfers control of a living person's assets to a trus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Even More Key Term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attorney – legal document that assigns someone the right to act on a person's beha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will – legal document that outlines a person's wishes for medical treatment under specific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inances &amp; Death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one 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estate needs to be sett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ing off bills owed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assets to benefici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Will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an execu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inventorying assets, pays debts &amp;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children's guar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what bills need to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how to distribute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valid will for a person is called int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After Preparation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ty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ed and 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nesses must sign an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where executor can acces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copies available and up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Other Document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rust – different person manages a person's as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f Attorney – Can be financial, health care, or both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Will – directs doctors and family for medical decisions if unable to notif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4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Funeral Planning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9640" y="1984320"/>
            <a:ext cx="828036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erals cost over $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eral homes must disclose their prices f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prepaid and determine the type of service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or cemetery may go out of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ff336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urchase funeral insurance that covers the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92720" indent="-561600">
              <a:lnSpc>
                <a:spcPct val="93000"/>
              </a:lnSpc>
              <a:spcAft>
                <a:spcPts val="1137"/>
              </a:spcAft>
              <a:buClr>
                <a:srgbClr val="ff336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letter that includes the type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2:48:43Z</dcterms:created>
  <dc:creator>Mike Farver</dc:creator>
  <dc:description>Presentation Layout Template</dc:description>
  <dc:language>en-US</dc:language>
  <cp:lastModifiedBy/>
  <cp:revision>1</cp:revision>
  <dc:subject/>
  <dc:title>White Blue and Lightnings</dc:title>
</cp:coreProperties>
</file>