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519-F402-4847-B208-56EB62D9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7AB-A758-4932-93FC-A3685C19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E96-4723-4ADA-91D4-5CEBE865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55D-DDFA-4BFA-9742-F21FCA4E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DD0-2092-419C-AD1D-D423ADC9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A6E-5E13-4EA9-A440-D43009FE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A87-5B4D-486E-A39D-E43E1EDF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C69-050C-4EE8-8783-1FA05083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80B-0DB4-46B9-AACB-160DEB6E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3E0-E953-43BC-8CF1-4F6C5117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0D8-86D4-434D-8B34-440532CE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0AE-72FE-4AD6-9046-2A7F8CAA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3202D-A1D4-4C6A-B75B-CEC4CDCEF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54040"/>
            <a:ext cx="864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t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 Sec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te – assets and liabilities left by a deceased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te planning – process of making legal and financial arrangements about how property should be hand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– legal document that directs how the estate is to be distributed aft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or – individual in charge of handling the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ore Key Term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ary – person/group designated to receive some or all of a deceased person's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ate – person who dies without a valid will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rust – transfers control of a living person's assets to a trus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en More Key Term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attorney – legal document that assigns someone the right to act on a person's beha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will – legal document that outlines a person's wishes for medical treatment under specific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inances &amp; Death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one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state needs to be sett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ing off bills owed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assets to 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il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an execu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inventorying assets, pays debts &amp;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children's guar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s what bills need to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s how to distribute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valid will for a person is called int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fter Preparatio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ty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and 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nesses must sign an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where executor can acces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copies available and up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Other Document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rust – different person manages a person's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Attorney – Can be financial, health care, or both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Will – directs doctors and family for medical decisions if unable to notif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uneral Planning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erals cost over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eral homes must disclose their prices f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prepaid and determine the type of service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or cemetery may go out of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urchase funeral insurance that covers th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letter that includes the type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2:48:43Z</dcterms:created>
  <dc:creator>Mike Farver</dc:creator>
  <dc:description>Presentation Layout Template</dc:description>
  <dc:language>en-US</dc:language>
  <cp:lastModifiedBy/>
  <cp:revision>1</cp:revision>
  <dc:subject/>
  <dc:title>White Blue and Lightnings</dc:title>
</cp:coreProperties>
</file>