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9C68-C438-4A27-A751-236C2889C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8278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99640" y="4161960"/>
            <a:ext cx="8278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1981-D2B7-4D05-8A28-3D7A0A0C7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1880" y="198432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99640" y="416196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1880" y="416196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ED38-924C-4C88-B5FD-168438CAE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26654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8640" y="1984320"/>
            <a:ext cx="26654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8000" y="1984320"/>
            <a:ext cx="26654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99640" y="4161960"/>
            <a:ext cx="26654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8640" y="4161960"/>
            <a:ext cx="26654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8000" y="4161960"/>
            <a:ext cx="26654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5A41-2A97-4FD0-B7EF-913686BD0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99640" y="1984320"/>
            <a:ext cx="82789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7255-9A3D-4D18-A0DA-04ECF3E70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82789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FBDD-8358-4DFC-AF9C-CE8CE5442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40399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1880" y="1984320"/>
            <a:ext cx="40399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98C8-ACC4-4764-89D5-08C220E9D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33A3-0362-40ED-B90F-4C7266603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0720" y="553680"/>
            <a:ext cx="86392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EE8A-8300-44E0-8D0E-CAD2C728B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880" y="1984320"/>
            <a:ext cx="40399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99640" y="416196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FE7E-22C5-4CD8-9E7C-91F9984B4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40399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880" y="198432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1880" y="416196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8209-5700-4BE4-9634-19100104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1880" y="198432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99640" y="4161960"/>
            <a:ext cx="8278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7640-4C43-4DF9-9C5A-36A7D6D18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99640" y="1984320"/>
            <a:ext cx="82789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7000"/>
          </a:bodyPr>
          <a:p>
            <a:pPr marL="33264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12720" y="645480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45480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83360" y="645480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803D64-315B-4B30-A4D1-2107148CAE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20720" y="554040"/>
            <a:ext cx="8640720" cy="56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t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3 Section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40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Key Terms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828036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855000" indent="-63972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te – assets and liabilities left by a deceased per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5000" indent="-63972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te planning – process of making legal and financial arrangements about how property should be handl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5000" indent="-63972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– legal document that directs how the estate is to be distributed after de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5000" indent="-63972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cutor – individual in charge of handling the e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40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More Key Terms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828036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eficiary – person/group designated to receive some or all of a deceased person's as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state – person who dies without a valid will in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ving trust – transfers control of a living person's assets to a trus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40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Even More Key Terms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828036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 of attorney – legal document that assigns someone the right to act on a person's beha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ving will – legal document that outlines a person's wishes for medical treatment under specific sit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40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Finances &amp; Death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828036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omeone 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ff336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ir estate needs to be sett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ing off bills owed f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 assets to benefici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40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Wills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828036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es an execu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ff336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s inventorying assets, pays debts &amp; ta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es children's guard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s what bills need to be pa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s how to distribute as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valid will for a person is called inte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40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After Preparation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828036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be ty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ed and d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nesses must sign and 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where executor can access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copies available and upd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40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Other Documents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828036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ving trust – different person manages a person's as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 of Attorney – Can be financial, health care, or both of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ving Will – directs doctors and family for medical decisions if unable to notify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40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Funeral Planning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8280360" cy="5081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8000"/>
          </a:bodyPr>
          <a:p>
            <a:pPr marL="423000" indent="-31716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erals cost over $1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000" indent="-31716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eral homes must disclose their prices for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92720" indent="-561600">
              <a:lnSpc>
                <a:spcPct val="93000"/>
              </a:lnSpc>
              <a:spcAft>
                <a:spcPts val="1137"/>
              </a:spcAft>
              <a:buClr>
                <a:srgbClr val="ff336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prepaid and determine the type of service in adv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692720" indent="-561600">
              <a:lnSpc>
                <a:spcPct val="93000"/>
              </a:lnSpc>
              <a:spcAft>
                <a:spcPts val="1137"/>
              </a:spcAft>
              <a:buClr>
                <a:srgbClr val="ff336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 or cemetery may go out of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3000" indent="-31716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purchase funeral insurance that covers the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92720" indent="-561600">
              <a:lnSpc>
                <a:spcPct val="93000"/>
              </a:lnSpc>
              <a:spcAft>
                <a:spcPts val="1137"/>
              </a:spcAft>
              <a:buClr>
                <a:srgbClr val="ff336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a letter that includes the type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30T12:48:43Z</dcterms:created>
  <dc:creator>Mike Farver</dc:creator>
  <dc:description>Presentation Layout Template</dc:description>
  <dc:language>en-US</dc:language>
  <cp:lastModifiedBy/>
  <cp:revision>1</cp:revision>
  <dc:subject/>
  <dc:title>White Blue and Lightnings</dc:title>
</cp:coreProperties>
</file>