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FB8-D8FF-4E60-A9AE-9FAD414E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A1D-161C-466D-A685-F7250507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446-05D8-4402-AC7B-5B9BA662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5E3-D01C-4052-AAFE-8EFEA210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6EF8-6D19-4F16-B571-27E6C78D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4D26-068F-4DB8-8735-20731FCB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1EF6-36B2-4DCD-9D32-922C4422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40E5-C154-4A28-8F41-21A3DD3C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2FBD-0B4E-40F9-95C6-4E866EDE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9568-EC70-41E4-83AE-47F0408F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F32D-B62F-498A-9F89-7154F0A1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10A-A5C2-4929-B68B-2F5A1FBD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633A-B5D6-4B1C-8140-F2E6CE2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AB1-0CC7-4312-89E4-B6753BD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9AC0-CE53-44E8-87E8-A026F2E1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2399-537A-4DCD-8E3C-3EBA0627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3D11-644D-48B5-A7B2-740BDE5D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73F6-8DA2-4548-98D1-864A7072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ED7A-04A0-4378-BA47-A20B832D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57F2-1FDF-4156-A76C-82D422F8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E3C4-92E9-4719-A866-AA8A5EBE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7B5C-06BD-4D5E-8EE6-1B2F7960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5A7-4897-460D-9460-FFA86239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9DDE3-2D9B-4289-9295-24749B8E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2515-E61E-43BF-B959-0D23EF0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252C-6C5C-42BC-846A-F46430D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C8AA-8866-4671-8E92-64B0E3EC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F1739-203A-495D-94B7-39E69217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DA75-C525-4AB3-8627-5C6C83D5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7750-5749-4511-8070-453AD810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199C3-E1F7-46E4-8240-F10FB456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3762-87F9-4702-9307-44874C36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20DD-13CE-40BC-9706-D551CFC2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5C3-C179-48A2-B659-8F8F7929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D3B1A-4B98-4EB3-9E7C-3282C87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8D75E-A305-4CA2-A468-A309D3BD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46B0-9C0D-47EA-8412-6C24D781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EA06-920C-4F4A-969D-490AC7F5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0145B-74B8-46C5-9DFE-A0477F4D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00341-7C46-47F0-9B20-AFDFA488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96C32-4BB5-4FA7-BBA0-B43EB388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27EB5-FEA9-4F6F-AF3F-CEA716AF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7E0F-8E13-406F-A7CB-CF677088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61D-AEF7-4916-B597-4BB0E120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D0D-CF00-474D-9F6A-2F4EED68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0C5-A57B-4D71-9C33-FB9A185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F9D-ADCE-40FC-934E-D8E51C5D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490-AEEF-471D-A848-53794BE9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FFE6-A52E-4A90-8454-CA282585594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3949-C7C2-447F-A023-AB89397ACBD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C3DE-337F-4946-9D60-7C565F496C4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288-3712-4A9E-9F59-DDD2C5ED994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UIs and mouse ev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s in Progr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va uses th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ageIc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ass to access im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ads images at program startup usu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are then passed to panels for 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the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mageIcon.paintIc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ethod to display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ometric Shap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ually drawn using the corner point, height, and wid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fine a specific shape as a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ready knows its shape attribut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a single draw or fill method to paint 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aint meth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reshes a GUI compon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paint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use Ev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ton presses, mouse movement, dragging the mou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listener objects to watch for ev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vent includes the current panel coordin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useAdapt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ndles all mouse events except for movement and dra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5:45:13Z</dcterms:created>
  <dc:creator>End User</dc:creator>
  <dc:description/>
  <dc:language>en-US</dc:language>
  <cp:lastModifiedBy>End User</cp:lastModifiedBy>
  <dcterms:modified xsi:type="dcterms:W3CDTF">2014-03-24T16:12:37Z</dcterms:modified>
  <cp:revision>3</cp:revision>
  <dc:subject/>
  <dc:title>Chapter 5</dc:title>
</cp:coreProperties>
</file>