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FE6-385B-4B83-8CC1-4113B7BF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5A30-21A5-436F-AD18-6AF427A1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F71-979C-403A-BEB3-A0F26949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160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82840" y="212868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160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82840" y="4306320"/>
            <a:ext cx="267696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633-BD2C-4ACD-9172-F7903758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121D-9CFC-45AC-AB68-260E4341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DAE-D60B-481F-AB93-63228A07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ED6-1B95-4414-AD1D-6BF831D7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3F0-AF29-4E8C-A237-538C87AD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662040"/>
            <a:ext cx="8673840" cy="610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8AF-C49A-4C09-A83F-AB08C186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A5C-8150-40B3-9659-E573C453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600" y="430632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37C-5B68-43F4-BFA5-4E29478C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600" y="2128680"/>
            <a:ext cx="4056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4306320"/>
            <a:ext cx="8313840" cy="1988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FA8-72DD-4D84-9376-66A9EB0F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6A6B5-9FC5-4525-A52D-95FF1C572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662040"/>
            <a:ext cx="8675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ating Objects &amp; Assign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se an object, we need to initializ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s1 = new Student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 s2 = new Student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py an existing object, we do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2 = s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bject s2 in the first bullet no longer ex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ng a Meth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visibility&gt; &lt;return type&gt; methodname (&lt;parameters&gt;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or – returns a variable's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ator – sets a variable's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l &amp; Actual Para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 – parameters listed in a method's 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– parameters passed to the method in th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parameter must match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and order of parameters must match t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al 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ared in a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s only in that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method is completed, the variable is de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662040"/>
            <a:ext cx="86756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lper 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2128320"/>
            <a:ext cx="831528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a small task to assist another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ent class returns an average in getA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elper would take the 3 test scores as input, total them, and return the to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getAverage would take that value and divide by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7:01:53Z</dcterms:created>
  <dc:creator>Mike Farver</dc:creator>
  <dc:description>Presentation Layout Template</dc:description>
  <dc:language>en-US</dc:language>
  <cp:lastModifiedBy/>
  <cp:revision>1</cp:revision>
  <dc:subject/>
  <dc:title>Fresco</dc:title>
</cp:coreProperties>
</file>