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5CD-CA58-4321-A8E4-DE79BCBD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F89-1F14-4E09-A853-D82C10F8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81C-1F30-40EC-8AAB-75265DCF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4C1-0CB7-4386-9B0B-23C6C006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912D-9DF4-4147-9E2A-60808A4B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030-0797-40B6-B467-22720D62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F0B1-BE21-480A-95E6-ABEDEEE5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483-6EBA-4CC3-9E53-C91FCE3F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61B-35A0-4AA4-93A3-EEAC9325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49D-C540-4087-AEC0-F8272D92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F55-DDF8-4CE3-AD57-DD3F1763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1C5-AF60-4A15-B119-68CB575F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70BA5-4E21-4A80-AFF1-8CCD582E9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ble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 Scop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variables – accessible to al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variables – accessible to only one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s declared inside th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meters to th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cope – variables only inside {}, like a lo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 Lifetim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 in which a variable can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d to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3333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variables exist until the object is dele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uplicate Variable Nam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variable names can be duplicated in other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mon Scope Error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global variable for temporary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local variable for global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global variable instead of a param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4T15:39:41Z</dcterms:created>
  <dc:creator>Mike Farver</dc:creator>
  <dc:description>Presentation Layout Template</dc:description>
  <dc:language>en-US</dc:language>
  <cp:lastModifiedBy/>
  <cp:revision>1</cp:revision>
  <dc:subject/>
  <dc:title>Notebook</dc:title>
</cp:coreProperties>
</file>