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DCA-EEF9-4E84-8773-0DA938E1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4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732560"/>
            <a:ext cx="9034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EC3-631B-4792-8B1B-D1F4D406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888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79E-8F73-4CB1-9566-4F596BE9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4240" y="251928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8840" y="251928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73256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4240" y="473256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8840" y="4732560"/>
            <a:ext cx="290880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EF7-B313-4A9D-917C-B418B278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2519280"/>
            <a:ext cx="9034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E2F-B1EB-4952-B065-36B55B10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4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A21-0C64-4C83-9937-937C1718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AC5-1AE3-4459-80E8-21594A92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183-751C-4245-9598-75F813BD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372600"/>
            <a:ext cx="93582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38C-DEAF-448A-963A-6499C54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745-D9BD-49A0-B63B-25E24B4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8880" y="473256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BDA-FDC4-4E39-B79B-7FFA528A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8880" y="2519280"/>
            <a:ext cx="4408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732560"/>
            <a:ext cx="9034560" cy="202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D47-D3D1-426C-B477-9D53309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372600"/>
            <a:ext cx="935820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2519280"/>
            <a:ext cx="9034560" cy="423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31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031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0311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D7E0D-F461-4B45-A293-7AD179D6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372960"/>
            <a:ext cx="9360000" cy="63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&amp;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: describes the structure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.java/.class fil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: is used to store and access data of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only in memory for as long as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“pointer” that directs the program to the correct memor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emory When Exec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templates (.class f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that refer to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ion removes variables and objects that are not refer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 – methods of a class (how to interact wi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– variables have a specific value that can change throug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ty – unique identifier for each object to separate multiple objects of the sam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and receiver (or client and 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interface is known by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workings are not known and should not be known by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n Application Programming Interface (A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&lt;classname&gt; (&lt;parameters&gt;) {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es al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multiple constructors but require different parameter lists (even just by type with the same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method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518920"/>
            <a:ext cx="903600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class &lt;name&gt; extends &lt;other class&gt;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&lt;type&gt; &lt;name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&lt;classname&gt; 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&lt;type&gt; &lt;method&gt; (&lt;parameters&gt;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10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72960"/>
            <a:ext cx="93600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udent Clas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519280"/>
            <a:ext cx="90360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name (mut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name (acces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1 of 3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1 of 3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average of the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highest s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name and test 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5:58:10Z</dcterms:created>
  <dc:creator>Mike Farver</dc:creator>
  <dc:description/>
  <dc:language>en-US</dc:language>
  <cp:lastModifiedBy/>
  <cp:revision>1</cp:revision>
  <dc:subject/>
  <dc:title>Glacier</dc:title>
</cp:coreProperties>
</file>