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52D-8AF1-4398-BD03-23B1B042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034-C579-46CE-B5D7-B7D8A8A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ACB-9A39-4AF4-A2F7-E80782F3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38A-D8C0-4843-B93D-5416C33E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7BE7-1F67-4B0E-9F21-3ECEC82B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D0B7-1301-48BA-9556-81CB63F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B04-5C1B-45EF-9B5C-6342EC0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4F39-47F5-44EB-98D6-F30B70BB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8FCE-C938-4ED0-898B-AEA10AD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1E6-A302-4FC1-BA8A-5BC973C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2E00-0AE1-4FDC-A93B-ABC40A6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1D0-63D4-49EC-89B1-31E31D7E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57D-6971-456E-B6C8-258603F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73A-88BD-41D9-91B5-B866283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D66-96AC-4037-8F6D-E52BE1DE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518-56B9-4196-8AAD-896CBBA0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E84F-EF17-4D5A-979F-905720BC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91ACE-93B5-4B01-8A5A-59B295DD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2E51-80EA-4193-993F-6F358A0B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6663-E4DC-46F7-BCAE-5D452BA7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EE45-3E4A-4586-8525-933E3C21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4592-906A-4E73-812E-5C6BA264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D55-1191-45BC-AECA-88351F4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7956-0C4A-4B37-B7E1-D099FBA4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D725-2048-4F11-B3B6-ED9814E0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F4F2-45A1-4CA7-9756-A2078858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9C27-35E4-4FE6-9962-51DB8E9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0E5D-8724-4C46-BDD5-CE517D31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86B03-1F77-42F3-A5F2-7844A410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E357-A7E7-43A1-BBE3-23FA9D8C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B637-8617-46B7-871F-B3D4650F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2DFB-44DA-4DA9-8DAF-6D70189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B4B06-4EE7-4592-9C85-A9986CC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F2C-0584-4BE1-BF01-1D860653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008F-CA84-4853-88C6-37E6F63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F66C-D05B-4397-8059-868C0F01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ECB6-749F-457E-82B9-4DAE668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1B1E8-0B02-44A4-BF0C-A0430D0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07DEA-C362-4150-BB05-194DFD6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AB40-FF3F-4BCF-AAFD-1FAC677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0A9FB-179B-45CB-81E4-6805D3D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00FB7-A7DC-4B29-87F1-7DEE3712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9BB8-8259-4912-98C1-43C480E3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034-067A-463A-94AF-683458AB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AED6-0FF0-4FE5-9B7A-7113FF2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EC6-CE47-4EB5-97FB-8F92502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8F2-5922-410A-8AFB-DAEE4082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CA1-01BF-4853-BCA6-0F6222E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F900-E3A1-40AD-81AA-AF88454333C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9E2-C918-47D8-8748-B7EEFF3C15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10C-54E8-4377-B82D-1568FE769E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385A-5902-4D80-A3BF-0F007157AF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Is and mouse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s in Pro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 uses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to access im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ads images at program startup usu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n passed to panels for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.paintIc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thod to display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metric Sha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drawn using the corner point, height, and wid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a specific shape as a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ready knows its shape attribu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single draw or fill method to paint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aint meth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reshes a GUI compon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aint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use Ev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on presses, mouse movement, dragging the mo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listener objects to watch for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vent includes the current panel coordin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useAdapt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ndles all mouse events except for movement and dra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45:13Z</dcterms:created>
  <dc:creator>End User</dc:creator>
  <dc:description/>
  <dc:language>en-US</dc:language>
  <cp:lastModifiedBy>End User</cp:lastModifiedBy>
  <dcterms:modified xsi:type="dcterms:W3CDTF">2014-03-24T16:12:37Z</dcterms:modified>
  <cp:revision>3</cp:revision>
  <dc:subject/>
  <dc:title>Chapter 5</dc:title>
</cp:coreProperties>
</file>