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B9C-E51A-45E7-8E71-FB2FC8EB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FD9-7C92-45DE-A432-F7798CEA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81D-A21C-4632-835F-9F23A795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41E-AC76-47EB-A188-D292284A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8BB7-2EAD-4FBD-A35A-156A2137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387A-3D1D-494F-A131-CA746D19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A2C1-9A16-47A8-9F46-D4C466F9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24C1-4704-4C7B-95BE-BFA055CC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524A-091B-4BBD-9D84-1BE1D3BD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C4F9-14F4-441D-87B1-355C7959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74A3-4DB0-495C-9F58-DC09937E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6C0-D3C4-4BAB-BA38-03B93F7E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5581-6836-4B86-A106-D4D5CAE6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EAEA-179B-451A-AD73-A9ED4EFF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2E14-68B0-4F6F-8C73-B9292AAC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AB03-AE06-4297-B218-6CC24051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32C8-6BFF-4923-959B-88031317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B719-F939-4B20-BC8E-72744A67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E0CCF-38AF-40E1-BC8B-52F0898C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ECF78-D4B0-4BFB-8ED9-B363F0CA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861BE-74FA-429E-8D11-3B29599F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D37B7-936B-4B07-B66C-E67F079A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FC6-8F98-453F-BDB9-149D6294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C7F3E-B3E8-4015-8F2F-0B1EB210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A44B5-EFA7-4208-A4BA-57F02B84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AD644-8ED6-4A63-A1C1-FA2FDAE3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51E2A-6CD1-4580-83A7-3EFECE2A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BA69C-2E59-4A1A-99CC-C378F5A7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09714-5D38-4BD8-990D-375A3944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6FC85-C6FB-44A8-ACEB-3056206A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808E8-934A-4E15-AB85-D4F6BA47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9344C-3D24-488F-A043-9CF5EDAC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38738-9AC1-42DA-8D6B-124301D7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1BD-9FF9-499E-991C-0C505426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84C86-2604-4D02-9436-B1CD7E5F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070B7-190F-4968-891A-1F220C98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096B9-E52A-47A4-89A1-2E48B3B0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1A04F-2E76-4C97-B5F8-993580EA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EDDF4-14E8-4A67-9BFD-4CEF1F7E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54173-9914-4B67-AF5E-402849A4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2F657-72A2-4834-B125-B7F39FAF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9822B-0FF2-47B6-9F1F-5C0D02AA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42415-557A-4D47-BF15-F8846F98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46C-5E32-43C3-B495-6C21CF02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7ED-7B08-432A-A218-5F5DC76E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4B7-99C1-46B6-A6A4-1425A2CF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750-189D-4DC2-91D6-DD700D74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C96-51E7-400D-9DF8-A06D5D4A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B561-388F-49C2-B208-77A78A7EDCB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1999-5D4C-45ED-ACFB-97B3AA66DDE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F724-1F55-4933-A9F7-5FB1561F2EF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2F95-FDB3-4944-BFAC-9F10393D9E0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UIs and mouse ev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ages in Progra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va uses the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mageIco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 to access ima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ads images at program startup usu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then passed to panels for 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the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mageIcon.paintIc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ethod to display 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ometric Shap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ually drawn using the corner point, height, and wid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ne a specific shape as a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ready knows its shape attribut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a single draw or fill method to paint 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paint meth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freshes a GUI compon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paint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use Ev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ton presses, mouse movement, dragging the mou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listener objects to watch for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vent includes the current panel coordin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useAdapte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ndles all mouse events except for movement and dragg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5:45:13Z</dcterms:created>
  <dc:creator>End User</dc:creator>
  <dc:description/>
  <dc:language>en-US</dc:language>
  <cp:lastModifiedBy>End User</cp:lastModifiedBy>
  <dcterms:modified xsi:type="dcterms:W3CDTF">2014-03-24T16:12:37Z</dcterms:modified>
  <cp:revision>3</cp:revision>
  <dc:subject/>
  <dc:title>Chapter 5</dc:title>
</cp:coreProperties>
</file>