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73C-87DA-4774-AB33-673D83E2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DCA-F42F-4C0F-A9F0-4F10E681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291-9196-4488-B206-2B9CE960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630-2287-4594-8E57-07E84CC7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BA2-A652-4558-A2CF-C286B510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C50-1480-433D-850D-6E6B0A5F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612-3B28-4AED-BA9F-9A3C6A52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261-6B8A-4894-B85C-F06A5E99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0A5-01C5-4C03-B541-FBBFB88B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FB5-303C-47F9-B93B-17C5DBC2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E88-8C85-4634-AB8C-1E76BB16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F6A-31B2-4F3B-891F-41516EBC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E22BD-C674-4712-9305-3BA275F77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ing Objects &amp; Assign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se an object, we need to initializ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1 = new Student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2 = new Student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py an existing object, we do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2 = s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bject s2 in the first bullet no longer ex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ng a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visibility&gt; &lt;return type&gt; methodname (&lt;parameters&gt;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 – returns a variable'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or – sets a variable'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 &amp; Actual 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– parameters listed in a method'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– parameters passed to the method in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parameter must match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and order of parameters must match t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l 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d in a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s only in that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method is completed, the variable is de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er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a small task to assist another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ent class returns an average in get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elper would take the 3 test scores as input, total them, and return the to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getAverage would take that value and divide b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7:01:53Z</dcterms:created>
  <dc:creator>Mike Farver</dc:creator>
  <dc:description>Presentation Layout Template</dc:description>
  <dc:language>en-US</dc:language>
  <cp:lastModifiedBy/>
  <cp:revision>1</cp:revision>
  <dc:subject/>
  <dc:title>Fresco</dc:title>
</cp:coreProperties>
</file>