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22F-CEF2-4B0E-8C80-475CF121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A8A-3814-4289-B3AF-0DEF674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E28-5571-46C4-82BB-5320C018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AC6-AADF-478E-B7BA-BEAA95F7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DE5-2E51-45FE-8784-A73C1CE5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CFE-DA66-4F66-97D9-359024B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959-2B2E-4938-A2D6-1019F4A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0A0-7450-48D5-83EA-68E7063B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03E-9F2D-4B70-A4A4-B3BEA58C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C27-8CD9-4001-BDD5-55FD2E4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18B-35DE-4848-96B3-3E53D84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CFE-C658-4F2D-B0F2-340E48B9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1E626-3721-4536-B120-9F6412E8F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ing Objects &amp; Assign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e an object, we need to initializ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1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2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py an existing object, we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bject s2 in the first bullet no longer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ng a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visibility&gt; &lt;return type&gt; methodname (&lt;parameters&gt;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 – return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or – set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 &amp; Actual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– parameters listed in a method'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– parameters passed to the method in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parameter must match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and order of parameters must match t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l 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in a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only in that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method is completed, the variable is de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er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 small task to assist another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 class returns an average in get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elper would take the 3 test scores as input, total them, and return the to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getAverage would take that value and divide b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7:01:53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