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61D-B8DE-4A9B-8DAB-21751FD2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397-2DEA-4818-82DB-25E3ED35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D7C-3FD7-4338-8193-A47B5321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3D9-71C0-4E87-9419-817B6F0F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250-E0EA-4FD8-AAAF-A3A3D7C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72B-DE05-41D4-AFD3-EF739D59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75B-AF7B-49DE-B68E-FF67B22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6DA-2DA5-4984-8461-B806C5AB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72E-63A8-4F82-B63B-68C815F4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AB7-89B0-4FB0-9BA7-A4E8DEB5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6FD-2E8E-4D45-8678-3F4DFDDD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EDB-9D26-4267-AD5B-9FA9983F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B0310-3D61-45E5-8EBD-EE56233E0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 Scop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variables – accessible to al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ariables – accessible to only on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 declared inside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meters to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cope – variables only inside {}, like a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 Life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in which a variable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d to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variables exist until the object is de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uplicate Variable Nam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ariable names can be duplicated in other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mon Scope Error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global variable for tempora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local variable for global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global variable instead of a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5:39:41Z</dcterms:created>
  <dc:creator>Mike Farver</dc:creator>
  <dc:description>Presentation Layout Template</dc:description>
  <dc:language>en-US</dc:language>
  <cp:lastModifiedBy/>
  <cp:revision>1</cp:revision>
  <dc:subject/>
  <dc:title>Notebook</dc:title>
</cp:coreProperties>
</file>