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2DB-90A9-4C51-B21F-BDF108C8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5F9-300D-473C-95EE-D5B149FF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AD7-33EE-4CDE-B7DB-BE17A56F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2D3-04D8-49B6-8091-0D51E007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9B7-56CA-49E7-B008-0AA92B4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C4F-7DA0-49EB-9342-2D9E4D1C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0F1-45DD-4C25-9BDF-F7D3E7C2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6ED-B9D6-4626-9A73-7DDB7597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012-A44D-42D4-B93D-8B8FA851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EE0-B093-4171-8206-17D5FE17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D16-3B0D-4261-BE10-29A4A4EF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E06-476F-4AF0-86E0-9D219071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16782-9B29-4E3D-88DD-0DBE13DA8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ble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 Scop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variables – accessible to al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variables – accessible to only on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s declared inside th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meters to th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cope – variables only inside {}, like a 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 Life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 in which a variable can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d to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variables exist until the object is del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uplicate Variable Nam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variable names can be duplicated in other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mon Scope Error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global variable for temporary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local variable for global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global variable instead of a para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5:39:41Z</dcterms:created>
  <dc:creator>Mike Farver</dc:creator>
  <dc:description>Presentation Layout Template</dc:description>
  <dc:language>en-US</dc:language>
  <cp:lastModifiedBy/>
  <cp:revision>1</cp:revision>
  <dc:subject/>
  <dc:title>Notebook</dc:title>
</cp:coreProperties>
</file>