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D1C-C3EE-4A1A-8F3A-9AF19E5B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4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732560"/>
            <a:ext cx="9034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7D6-D5A5-47A2-A66F-9BE510B5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888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73256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8880" y="473256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113-A32A-44A4-95B5-765BC79C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240" y="251928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8840" y="251928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73256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240" y="473256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8840" y="473256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574-DFD6-402A-AF61-85269E2E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2519280"/>
            <a:ext cx="9034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834-BDD4-4C24-A79F-68877990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4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4B4-010F-496C-8730-6B9D0320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4408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8880" y="2519280"/>
            <a:ext cx="4408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643-9167-46D4-B60D-041C7245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B249-BC36-47D7-9558-57D0EE2B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000" y="372600"/>
            <a:ext cx="93582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026-4BB6-47AE-B356-B247041C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8880" y="2519280"/>
            <a:ext cx="4408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73256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D8F9-9BB1-41E7-8279-AEF97735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4408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888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8880" y="473256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B54-6FE9-4566-8D44-A74D4CF3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888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732560"/>
            <a:ext cx="9034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52F-B943-488F-BF84-AB0BB672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2519280"/>
            <a:ext cx="9034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31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031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0311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442A1-D734-4A6E-B24A-01DA29C81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372960"/>
            <a:ext cx="9360000" cy="63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an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 &amp;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: describes the structure of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.java/.class file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: is used to store and access data of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 only in memory for as long as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“pointer” that directs the program to the correct memor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emory When Exec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templates (.class f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that refer to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collection removes variables and objects that are not refere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 – methods of a class (how to interact wi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– variables have a specific value that can change throug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– unique identifier for each object to separate multiple objects of the sam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and receiver (or client and ser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 interface is known by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workings are not known and should not be known by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n Application Programming Interface (A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&lt;classname&gt; (&lt;parameters&gt;) {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es al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multiple constructors but require different parameter lists (even just by type with the same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method 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903600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lass &lt;name&gt; extends &lt;other class&gt;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&lt;type&gt; &lt;name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&lt;classname&gt; (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&lt;type&gt; &lt;method&gt; (&lt;parameters&gt;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udent Clas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name (mut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name (access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1 of 3 test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1 of 3 test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average of the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highest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name and test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15:58:10Z</dcterms:created>
  <dc:creator>Mike Farver</dc:creator>
  <dc:description/>
  <dc:language>en-US</dc:language>
  <cp:lastModifiedBy/>
  <cp:revision>1</cp:revision>
  <dc:subject/>
  <dc:title>Glacier</dc:title>
</cp:coreProperties>
</file>