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B41-3242-4882-8208-0F2B111C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38E-A15A-498E-A00C-3CD2755D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8FE-FDC1-4F58-844F-6E43DE5C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2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88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2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88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817-CF1E-4015-9B2B-AE0C6DC6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BE6-04CB-43DA-A5D8-E4D0EB31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97C-56A1-4808-95D1-847C986B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203-CA47-48C5-AF79-859A2DA4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542-3426-4E0C-BB66-269C6F6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82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B4D-0D88-46E3-B2FB-7EF0523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920-BA24-473C-A7D4-E01C544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A26-A538-4D31-AA2E-7D9E9FC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59E-0966-4396-8921-4BA5CE0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31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031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0311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6FF07-40A5-48EE-A9EA-FB5B64BC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72960"/>
            <a:ext cx="9360000" cy="63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&amp;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: describes the structure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.java/.class fil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: is used to store and access data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only in memory for as long as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“pointer” that directs the program to the correct mem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emory When Exec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templates (.class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that refer to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 removes variables and objects that are not 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– methods of a class (how to interact wi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– variables have a specific value that can change throug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– unique identifier for each object to separate multiple objects of the sam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and receiver (or client an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interface is known by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orkings are not known and should not be known b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n Application Programming Interface (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&lt;classname&gt; (&lt;parameters&gt;) {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s al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multiple constructors but require different parameter lists (even just by type with the same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600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&lt;name&gt; extends &lt;other class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lt;type&gt; &lt;name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classname&gt; 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type&gt; &lt;method&gt; (&lt;parameters&gt;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ent Clas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name (mut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name (acces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average of the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highes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name and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5:58:10Z</dcterms:created>
  <dc:creator>Mike Farver</dc:creator>
  <dc:description/>
  <dc:language>en-US</dc:language>
  <cp:lastModifiedBy/>
  <cp:revision>1</cp:revision>
  <dc:subject/>
  <dc:title>Glacier</dc:title>
</cp:coreProperties>
</file>