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BA37E-B4AD-468D-AADA-308CA83F37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4647-8360-4FD7-9719-2102B0CF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78FA0-7F87-4469-ACA5-3A392495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5DA0-B9CF-4309-AAC2-519B30C755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4A549-9994-4895-9CE9-714449BA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8EAE7-0D73-448B-8F44-0A69421C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11CAC-1E2C-40F2-8958-215EEF85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6806D-8E54-4FA3-9582-7D8125DE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EC92D-3082-4044-ABDB-40A22C7F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69BCE-1755-4F12-8D31-CFB1C06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22EF6-6E12-464D-9C1B-94B73B0A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6E0C-5F2C-4F66-A84A-ED839352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D7FF-3479-4E07-B4DB-6594DD73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0955A-B00C-4F6C-8BC4-52617BE5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4C90A-223B-446C-A899-CB5257AA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09B95-A6E5-4F55-AFEF-D516AA13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FD24F-2053-4FC8-AFE8-5EFB1314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D146-F5DF-412A-975D-7B595A04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97898-2C90-4923-89B0-E244185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774E-95DD-4818-AE90-6DAD5CF5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A86F-C70E-438F-A2A8-39DC44E5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B52F-B615-459F-8B51-283D0DB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90BD-2D22-40F9-8CD4-A6BB9660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9C46-5A7C-4763-93A6-DCFE1191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7A77-74F8-4C11-B79A-8C092FF5CC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BE94-92B7-478F-808A-8D740D73F73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apter 15</a:t>
            </a:r>
            <a:br>
              <a:rPr sz="3400"/>
            </a:b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ction 1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ole of Advert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s of Advertis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int ads: newspapers, magazin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rect mailing: catalogs, flyers, promotional newsletter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adio &amp; TV commercia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ms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fomercials: TV or radio ads that are 30 minutes or longer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ternet a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Billboards or sign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Business' Purpose of Advertising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onvince consumers to buy a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Increases sal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Notifies customers of the produc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If they don't know you sell it, they can't buy i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For Consumers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600200"/>
          <a:ext cx="8230680" cy="1969560"/>
        </p:xfrm>
        <a:graphic>
          <a:graphicData uri="http://schemas.openxmlformats.org/drawingml/2006/table">
            <a:tbl>
              <a:tblPr/>
              <a:tblGrid>
                <a:gridCol w="4115160"/>
                <a:gridCol w="4115520"/>
              </a:tblGrid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awb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6633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compare prices and s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anno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 to make better cho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the spending of money on unnecessary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59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programming on TV, radio, and web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false or misleading stat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16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Ad Regulation</a:t>
            </a:r>
            <a:endParaRPr b="1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TC defines advertising standard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644480" indent="-545760">
              <a:lnSpc>
                <a:spcPct val="100000"/>
              </a:lnSpc>
              <a:spcAft>
                <a:spcPts val="1026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ederal Trade Commission (FTC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Health or safety claims must have scientific evidence to support i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Children's ads are also evaluated more closel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430200" indent="-324000">
              <a:lnSpc>
                <a:spcPct val="100000"/>
              </a:lnSpc>
              <a:spcAft>
                <a:spcPts val="128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Only national ads are monitore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21:08Z</dcterms:created>
  <dc:creator>End User</dc:creator>
  <dc:description/>
  <dc:language>en-US</dc:language>
  <cp:lastModifiedBy>End User</cp:lastModifiedBy>
  <dcterms:modified xsi:type="dcterms:W3CDTF">2014-02-25T17:23:40Z</dcterms:modified>
  <cp:revision>2</cp:revision>
  <dc:subject/>
  <dc:title>Chapter 15 Section 1</dc:title>
</cp:coreProperties>
</file>