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0205-995E-447C-8715-C8A805F1C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BCDE0-67B4-47CF-AC94-1668AB1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5C999-7E9F-4B31-8DDC-EBE3A5F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6FC9-1DED-4091-90E6-16BA0FABF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39B1-5B25-46E2-9DD4-AE1D43AEE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B71C7-4164-4782-9933-2EA7DBE1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D3733-5973-4E1D-A5F4-3A2D16BC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F1269-2821-467E-BF74-76801FB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6CAA5-5392-4C1F-97B3-BC22FB5D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C6060-4D78-47BE-BCC4-03365852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97CF-242F-4B9A-8CDF-0DB10006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A17D-F030-47AD-A89B-A8386A1D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7002F-5DF4-470B-8051-4309CCED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8F92B-4846-48B0-BBBD-8803CF5C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26DB9-E49E-4CA3-9E8B-8DB392A2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CC014-FAF4-4C0F-82A5-68454BBD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C2127-39DE-4E6C-B3CA-0CF161132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C5B9-51D6-458C-A57D-185D4FC6D2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3D3C-AE4F-4B7C-9679-63B52897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E99-684F-4D38-8B1A-A590F9C8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EC6B-85ED-4BD1-A59A-03CD7EF4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827A-3FCF-4550-BF58-61768341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3068-CF1C-48C9-B405-951395E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551-48C5-42AC-A508-9BF68DD7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124-2149-4BB4-B56E-1904EBAF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155F-785D-4B79-A28E-EB0E3EB1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778A-13C9-4EAB-973B-6886280A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C472-9A18-45B3-B850-9A6DD0A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E85B-B887-45A5-A82D-6901D2D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76F6-B5EA-4EA7-B39F-1C1207A8F7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313DF-7513-4C86-8107-65FACF191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95554-26A6-46C0-B727-5519138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75BD7-8B57-4295-89D2-DA060FD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F233-915A-4F81-B2E1-091A1C3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C6751-A68C-49DA-9A77-A14FEBC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4F785-D840-4BC8-8377-156D8766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3C9A5-3335-453B-8827-1750B64C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D7EB3-CB39-4CB2-A2D5-F720206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76EBC-9578-4654-B532-1B1D411A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43881-D022-4B9E-A76E-B0E74F0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AB0C76-74B9-44C4-90E2-43548051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D77E6-6285-49E9-91E1-DB8B087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85859-0FC3-49F6-84D7-90F32F81B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95820-7F94-4933-8F38-5C77754A1E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1CB1-91F3-412E-8B2E-268FB816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9DE29A-B6CE-45D3-97A5-9A96905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C2A9CE-29A3-44CC-A24D-695D6898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CC3303-8E40-4F61-828D-99450A6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0ABA3-C560-42C1-8076-B03705DD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4EBCC-61A6-4A6C-8BBC-09D560B1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9ED08F-DA94-456E-B983-A3C6EFE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D8365-C59F-4E08-AA0F-179ACAC9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F317C-01E4-4E3C-8EE9-9BABB89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77A796-D8E5-4AB2-B911-08E7473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76E26-8D0B-4513-8DD7-9A614CB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62A7-BFBF-4FC0-909D-FEA7E42E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437B4-32CB-41EF-AE55-C597679F8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21C4-9C50-4B4B-B89B-F1F4669BD5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A5CD-593D-4235-AEF6-194F07AC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5BBA7-C600-413B-BFB0-86C9F156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8C1C-EA88-43EF-8BEB-E2F0E988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701E-2A73-41DC-9A9A-BE23E92E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6A3C-9318-467F-8FD2-B9B2F184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C478-4F3F-4A84-BBF3-546ABE9A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50E92-2359-49AA-8598-CB8B7B3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8F61-9139-4081-B300-F53D109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5A2F-9153-4716-9B38-C238A72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8B35-8AFA-43B1-9DA4-7FFA074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B2DB-8C59-48CA-9647-D651520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7096-6DB1-4C07-8B41-C8039E713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2F74-0996-4289-B783-5AE2F762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54D2-29E5-491F-8D22-D3B085D0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3F2BD9-9BFD-4F6D-A56D-B4E6E19994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71E172B-3D93-4D3D-840C-782B16B65273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6711F97-9497-454A-AFC9-81F935A17AB5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8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CFB8A3D-76D7-4C41-A5CE-C4201F93BD4A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0"/>
          </p:nvPr>
        </p:nvSpPr>
        <p:spPr>
          <a:xfrm>
            <a:off x="8156520" y="6421320"/>
            <a:ext cx="7603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D3135B2-0A27-4713-B3FF-544871A6E116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7200" y="642132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8152920" y="642132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65EA4E1-B414-4E93-83FA-BA0935DE740B}" type="slidenum">
              <a:rPr b="0" lang="en-US" sz="1000" spc="-1" strike="noStrike">
                <a:solidFill>
                  <a:srgbClr val="9b9a98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876240"/>
                <a:tab algn="l" pos="1790640"/>
                <a:tab algn="l" pos="2705040"/>
                <a:tab algn="l" pos="3619440"/>
                <a:tab algn="l" pos="4533840"/>
                <a:tab algn="l" pos="5448240"/>
                <a:tab algn="l" pos="6362640"/>
                <a:tab algn="l" pos="7277040"/>
                <a:tab algn="l" pos="8191440"/>
                <a:tab algn="l" pos="9105840"/>
                <a:tab algn="l" pos="1002024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dorsements: actors/athle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umor, slogans, jing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umping on the bandwag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roup ident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ing a trendset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dden f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itional Valu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cognizing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s are designed to look like non-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fomercials appear to be a talk sho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gazine ads look like arti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site ads may look like an im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say “Paid advertising” or “Paid programming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it focuses on one product, it is probably an a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ritical Thinking on Ad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caught my attention?  How does that connect to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es the ad influence me and react my emotion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oesn't the ad tell me about the produc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's in the fine pri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it too good to be true?  How can I research it furthe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Ad Exampl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2578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562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73868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28616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828800" y="50760"/>
            <a:ext cx="495288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0" y="382680"/>
            <a:ext cx="4343400" cy="64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thods of Persuas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umers purchase based on feelings rather than fa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ositive Images: perfect lives because of the produ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ggerated or subjective clai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ed puff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760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fore and After comparis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17:13:28Z</dcterms:created>
  <dc:creator>End User</dc:creator>
  <dc:description/>
  <dc:language>en-US</dc:language>
  <cp:lastModifiedBy>End User</cp:lastModifiedBy>
  <dcterms:modified xsi:type="dcterms:W3CDTF">2014-02-25T17:21:00Z</dcterms:modified>
  <cp:revision>2</cp:revision>
  <dc:subject/>
  <dc:title>Chapter 15 Section 2</dc:title>
</cp:coreProperties>
</file>