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6003-3E44-45E6-BDFE-DEAF95C6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CF61-0ECD-404D-BD31-7262212F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5A74-013A-4FBE-9F73-5467D406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9FEC-6C7A-4432-873C-8F7CEAAA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4462-AD6E-4BA5-8F6F-AD5AC530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2904-2871-47A4-8200-D3B45BC7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26B4-9DF9-4A8B-BD99-F2F26E21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6C56-C3E6-43CB-A881-E9712931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41DB-21F8-44E9-8FF7-47541585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7348-E1A8-4722-B607-BE41BB5C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99C6-0F80-4F8B-ADF1-E9D6CF42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7761-CFD7-46D0-9588-11C46D0F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06130-9A8E-4030-8C25-9711C14F6F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ions &amp; Sales Tac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Sa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earance (Inventory Reduction) – sale of excess unsold merchand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sonal – based on the time of year: back to school s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ing out of business (liquidation) – only if a store is really going out of bus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iday and other sales – Labor Day s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ss Lead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em priced below retailer's cost to attract customers to the st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e money on the i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stores raise other items' prices to make up for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legal in some but not all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ce comparis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es display their price and another pr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 be another store's, a different manufacturer's item, or the suggested price of the manufactur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cen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ward offered to encourage a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pons – amount off of an item ($ amount, percentage, or get one fre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bates – partial refund of the purchase pr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eepstakes – contests; you shouldn't need to pay anything to enter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btle Selling Metho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621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frequently sold items are in the far cor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cc99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ping you'll find something on your way there to bu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profitable items are at eye level or in a large aisle disp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cc99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small profitable items are by the regi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e décor matches the target customers' p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cc99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ic is slow to keep there longer; faster to leave soo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cc99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rs can calm or excite custo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sonal Sell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espeople – employees paid on comm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cc99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try to talk you into buying a higher priced version: called trading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emarketing – phone call trying to sell you a product or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cc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or-to-Door – traveling salespeople who come to your home to sell you some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15:19:03Z</dcterms:created>
  <dc:creator>Mike Farver</dc:creator>
  <dc:description>Presentation Layout Template</dc:description>
  <dc:language>en-US</dc:language>
  <cp:lastModifiedBy/>
  <cp:revision>1</cp:revision>
  <dc:subject/>
  <dc:title>Blue and Grey</dc:title>
</cp:coreProperties>
</file>