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CF233-3335-424D-8A44-7113B9EE4C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EDC3B-445A-4BD0-9E41-A1369A5E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6F101-1661-4E20-95B8-29E67B72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721F-843A-4E96-8686-273AE83C40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B3FA2-1F12-40F0-A766-8DBA10FC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5BFC1-F203-452C-85F7-E60024D3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54B24-4598-40EE-B7C6-3CA78B59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5153B-E71F-434D-B48B-EEEB697B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E75B6-D09F-4207-A3FD-60880F51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2DE20-5CB9-480F-838A-7EE2BA44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09802-B9E1-41ED-AF28-F2E19B5B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B57E-A31A-4E8C-979E-0BC31718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22BA6-D4F2-4738-A968-9CB999D6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EBA01-F41D-4A1B-BC7D-3EDFA105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9A3FE-35AD-4D65-8E69-42AB99EE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4FB7E-0317-4D12-91A7-0A819FAC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C928B-C685-4080-A0CE-8C5444A9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3ACF-5936-41EB-97E5-DFC24853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F89AB-DC8D-4F6E-8D43-E74C184C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04D3-E9D1-4EF7-8462-15BAE1E4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3293A-B74D-478A-99E8-D942DBE8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B51E9-8C46-4091-A661-7CC4B744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98046-7659-4EEB-8078-06DC403C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5D2FA-A40D-4B65-B0D9-762DF35C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43ABA-381B-478A-A027-0BC7A8748A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7481C-74F8-4B89-A9FC-0D2D91A1C00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hapter 15</a:t>
            </a:r>
            <a:br>
              <a:rPr sz="3400"/>
            </a:br>
            <a:r>
              <a:rPr b="1" i="1" lang="en-US" sz="3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ection 1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ole of Advert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orms of Advertis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int ads: newspapers, magazin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irect mailing: catalogs, flyers, promotional newsletter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Radio &amp; TV commercia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Forms of Advertising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Infomercials: TV or radio ads that are 30 minutes or longer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Internet ad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Billboards or sign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Business' Purpose of Advertising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onvince consumers to buy a produc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Increases sale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Notifies customers of the produc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1644480" indent="-545760">
              <a:lnSpc>
                <a:spcPct val="100000"/>
              </a:lnSpc>
              <a:spcAft>
                <a:spcPts val="1026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If they don't know you sell it, they can't buy i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For Consumers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30680" cy="1969560"/>
        </p:xfrm>
        <a:graphic>
          <a:graphicData uri="http://schemas.openxmlformats.org/drawingml/2006/table">
            <a:tbl>
              <a:tblPr/>
              <a:tblGrid>
                <a:gridCol w="4115160"/>
                <a:gridCol w="4115520"/>
              </a:tblGrid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b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6633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er to compare prices and 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annoy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59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information to make better cho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the spending of money on unnecessary 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59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programming on TV, radio, and web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have false or misleading stat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Ad Regulation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TC defines advertising standard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1644480" indent="-545760">
              <a:lnSpc>
                <a:spcPct val="100000"/>
              </a:lnSpc>
              <a:spcAft>
                <a:spcPts val="1026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ederal Trade Commission (FTC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Health or safety claims must have scientific evidence to support i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hildren's ads are also evaluated more closely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Only national ads are monitored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17:21:08Z</dcterms:created>
  <dc:creator>End User</dc:creator>
  <dc:description/>
  <dc:language>en-US</dc:language>
  <cp:lastModifiedBy>End User</cp:lastModifiedBy>
  <dcterms:modified xsi:type="dcterms:W3CDTF">2014-02-25T17:23:40Z</dcterms:modified>
  <cp:revision>2</cp:revision>
  <dc:subject/>
  <dc:title>Chapter 15 Section 1</dc:title>
</cp:coreProperties>
</file>