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8817-B7FD-40C7-8B5F-EE841AFFFB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D5CE-FDE2-47A9-B805-6A0DD468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598F0-BD78-4600-87FC-57C614FD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0DF6-4636-43B6-B6CC-8669FFB32B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90100-B0ED-42EE-A932-2880FA71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5F677-7B87-425D-8C45-4110B36C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41874-18DF-427F-A2B7-8080A46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4F9F9-4131-47EF-90BC-6C35AEF8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4AB39-937A-441B-B6CC-342EFA88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BFB4-AB41-457C-9661-0D6DB16E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24110-373E-4FAE-8C07-08766482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EFCE0-A357-40D4-B13A-C623F1E5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766A7-448C-40FD-A368-B8A228F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3DCDF-8913-4F1D-AD1D-9C132D6E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225A7-9C57-4C19-9A32-6CD70FA2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78FFA-4F1C-439E-8894-5647A989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13C89-56DD-4A7E-B557-F7EEE89B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69AA-C431-4E53-B28D-581BDD4B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5239-45BB-45AB-979A-6C30EC3C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96D7-37BC-4246-ACED-C399DB8F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A861-77F1-4160-B6B6-706F8209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0D5F-5B9E-4834-A0ED-EF7C3C4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4239-E65F-46B6-AD1A-93E91472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ACF8-34D6-4756-8120-A317625F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0A7EA-E295-4421-B676-27D3AD089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EFABE-3C86-4C46-89D3-D3D456222F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apter 15</a:t>
            </a: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ction 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le of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s of Advertis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int ads: newspapers, magazin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rect mailing: catalogs, flyers, promotional news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adio &amp; TV commercia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Forms of Advertising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fomercials: TV or radio ads that are 30 minutes or longer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ternet ad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Billboards or sign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Business' Purpose of Advertising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onvince consumers to buy a produc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creases sal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Notifies customers of the produc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644480" indent="-545760">
              <a:lnSpc>
                <a:spcPct val="100000"/>
              </a:lnSpc>
              <a:spcAft>
                <a:spcPts val="10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f they don't know you sell it, they can't buy i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For Consumers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30680" cy="1969560"/>
        </p:xfrm>
        <a:graphic>
          <a:graphicData uri="http://schemas.openxmlformats.org/drawingml/2006/table">
            <a:tbl>
              <a:tblPr/>
              <a:tblGrid>
                <a:gridCol w="4115160"/>
                <a:gridCol w="4115520"/>
              </a:tblGrid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b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6633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compare prices an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anno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information to make better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the spending of money on unnecessary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programming on TV, radio, and web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false or misleading stat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d Regulation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TC defines advertising standard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644480" indent="-545760">
              <a:lnSpc>
                <a:spcPct val="100000"/>
              </a:lnSpc>
              <a:spcAft>
                <a:spcPts val="10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ederal Trade Commission (FTC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ealth or safety claims must have scientific evidence to support i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hildren's ads are also evaluated more closel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Only national ads are monitore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7:21:08Z</dcterms:created>
  <dc:creator>End User</dc:creator>
  <dc:description/>
  <dc:language>en-US</dc:language>
  <cp:lastModifiedBy>End User</cp:lastModifiedBy>
  <dcterms:modified xsi:type="dcterms:W3CDTF">2014-02-25T17:23:40Z</dcterms:modified>
  <cp:revision>2</cp:revision>
  <dc:subject/>
  <dc:title>Chapter 15 Section 1</dc:title>
</cp:coreProperties>
</file>