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7716-7727-4E34-89FA-5FA60B30D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C21D-FFE0-4A7F-91E9-3A9A340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DBA7-B783-44C3-9B6F-4B2096E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35C2-4E5F-49A4-81C4-F98AD73DBC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C691A-8672-414D-8415-5F7ED60AF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33237-4DB2-49D3-BD1E-20E5082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04268-03F7-4A5D-B2EB-3AF2909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B8BEC-AB60-455C-989B-FD8CBB8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2890A-E89F-44EC-B5B1-C0C9B2F5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F3D77-0F64-46EC-A39C-C388D307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BBF85-779F-4DB8-956A-9CB30535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B4AC-C1E4-46FC-A5D6-577113BB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DBEDA-AE5B-469D-A82A-6ACE6035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99EEF-4A5A-4D3B-BDDE-CFBEE5C7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E0EAB-CFF9-4FA8-8D2C-D3DF2723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56E4D-D384-451B-B624-C8DD973F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57D2D-7B78-4EC5-B2C1-D8AD3E5EA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AE72-7E8F-4806-9E43-464DE98F5A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A76D-B9A4-42DE-BFDA-2B80AEAC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ED7-E7AA-4333-A6FE-9EABC76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A889-E5DF-499E-A68A-C8F1196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9D26-2B62-4943-BFD5-758084C6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D40D-65D2-43CC-A664-B4E146F9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6F8-09AF-4F23-B59B-1498BEBF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4824-86B8-4187-AD09-1F58CBD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6425-C27A-4F22-9A90-55BA9F9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534-86D6-47AB-91E2-32AE8E5C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21E3-588B-4FCC-91A3-D4C4F42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4A38-C522-4320-9702-02775D95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8039-2022-4243-9F8D-E7FD86F6B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B27E0-AE2D-4FEC-9510-EFF965FE2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A5FEE-1689-4706-A3F2-CA5D5B28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54BD1-7670-4B11-897B-21AEE6F6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B05C-1B3E-40CF-82D3-E8C24D2D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39929-A8FF-4655-B52D-F879809F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897B4-0A2B-41A5-B516-83DC2F32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B8BCF-1834-4413-B7FB-E9FD4E44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FAB1B-2059-4E99-8376-9B3C785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23FE9-728E-4AAB-8E6B-1393C2E1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23C1B-F6A3-4E0D-8C9D-8B1A543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F2E73-0A72-45F6-BB3B-D4DE582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7276D-BB4C-4DAA-9772-1D34837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707B8-5458-4BDD-9F2C-0C6F6BE8A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B0D968-E7E8-4881-B228-779C3F84C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27AB-9DA1-427D-9139-6E65F100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1AD62-003E-481D-9CF2-2B8233A2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1B4A7-8CAF-4A06-BA13-48DC55A1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5DADA9-0A50-464E-8A38-F2F8E601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4C0F5-BDB6-4BCA-896F-9BA7E05F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E2535-DF28-4306-A198-47ED8685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AF29C-A2CA-47F5-892F-8A10AE4E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8B494-F93A-46E0-A16D-79EC936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A69E9-9FA6-425C-81FE-C23EA15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6903E-F9AB-4796-B602-E46FBF31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9FEAD-0AA0-48CF-B565-D207649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119E-1905-47A0-9A98-91D399F7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986E7-A80C-4CFA-880C-573232D7D5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700D-FE16-4AF8-AFC6-2C60E51159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4D50-1432-4FAF-B821-7765E6AA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19E0-A777-481C-817C-B984EB68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EDC5-5C1F-463F-A70A-687F3032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A72D0-E103-4B62-AB59-FB714EFB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FF2B-EF63-4A88-AE37-CDCB7358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34CF-AB53-415E-8A75-E9D54A46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95ED-FC71-462A-9445-A9252930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034B-0A28-4FB6-B426-E41832FC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D7CC-F029-4AD9-BC17-DAE9035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27C7-A7C3-4F31-BE4A-15569DD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72E6-AD02-43F1-8941-BF287FE4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3E496-C150-4717-AB32-782C03EA2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3DBE-BDEF-4D31-A288-EADD0C4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B536-7DEB-4FA5-8895-66C15E58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FA85CB-6C89-4F66-BAA1-94A0E7F74E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741E5EE-44F4-427C-B971-8EEB60C5DBE6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E12E552-316B-4714-B72B-B6136513A968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0F203D4-D72F-4DC3-B254-7D2DB10CD531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2132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8D1E91D-6F35-449C-A056-0B2EEC8EB755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A07ED2A-C369-4659-B0D5-F0C99356C891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dorsements: actors/athle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or, slogans, jing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mping on the bandwag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oup ident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ing a trendset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dden f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itional Val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ognizing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s are designed to look like non-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mercials appear to be a talk sh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azine ads look like arti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site ads may look like an i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say “Paid advertising” or “Paid programming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it focuses on one product, it is probably an 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ritical Thinking on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caught my attention?  How does that connect to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the ad influence me and react my emotion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esn't the ad tell me about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's in the fine pri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it too good to be true?  How can I research it furth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d Exampl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562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7386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8616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8800" y="50760"/>
            <a:ext cx="49528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0" y="382680"/>
            <a:ext cx="43434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umers purchase based on feelings rather than f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itive Images: perfect lives because of the produ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ggerated or subjective clai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ed puff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and After comparis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13:28Z</dcterms:created>
  <dc:creator>End User</dc:creator>
  <dc:description/>
  <dc:language>en-US</dc:language>
  <cp:lastModifiedBy>End User</cp:lastModifiedBy>
  <dcterms:modified xsi:type="dcterms:W3CDTF">2014-02-25T17:21:00Z</dcterms:modified>
  <cp:revision>2</cp:revision>
  <dc:subject/>
  <dc:title>Chapter 15 Section 2</dc:title>
</cp:coreProperties>
</file>