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BE4B-0554-4577-A5E9-08C40354C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4EC7-5A0B-4E3E-9B85-EE54C42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F31BC-8AEB-43FD-82DE-CFB16E29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9A58-62A7-48D0-ADE9-9A1A0AF0A2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254D7-D52D-4664-B1F8-ABBBB18E47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F5F3F-343B-4BA3-8EB8-47A91723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A1730-8FD2-4D6B-AF3D-57284C5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471FE-BC44-40AA-AD2A-B8EE3156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55EC1-E0D5-46D1-A652-75F7A992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E1620-A224-4C20-8AA7-2249671B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53C8A-66B6-45D2-B9AE-18679D3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E164-5E8D-49FC-8688-DF6D560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F72ED-3A00-4171-9C09-2F82D8BB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DF08D-1FDF-49CB-A2C1-08CAB0A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6D02A-1BA2-49A6-8066-9732A0E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BC602-FC4C-405A-9D3B-6FBC49E9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14E00-3394-4207-B0EC-A0E3C2F9E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5C7A-2466-4B37-A3B9-CF3D9236E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D293-625D-484F-9BC2-9FABD34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7432-1DD0-4E46-ADC2-AE38ECA5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886F-4377-46C6-86C1-BDAF574F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2D5D-1713-46BF-A92B-99295672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65F5-5E7E-45E7-8085-CACE4A7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533-D828-4163-B548-D86D6975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527E-0B68-4970-8A37-3FC0410E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159B-5551-432D-B284-5C0B5FE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0165-A412-414A-8D93-880FDE7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54E4-9470-4593-96DD-52E7B420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1CF0-9303-497B-9F9A-FB71A9A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8EBE-23A3-4E6D-B22D-701405213E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F1C64-9B78-4716-9DF1-70AFA3B67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44DD7-F96B-40B0-85AE-565AF7ED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5D2D7-014E-4BEC-8F90-AB3D6EA5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24AF-C563-49DD-81BB-8DCC5336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592B5-B3B5-44DE-AC58-662FAE25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944AA-4AFD-415E-B409-87484934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7260-3A33-4C7E-BCFB-331971AC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7D8DF-9337-4216-8DC2-B9005F83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1FF07-6BA7-46F1-9052-6C270FD4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9B73C-A6EF-467E-974E-602C8DAD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F1435-9B38-4ED8-9BD1-FAEF537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C12C4-EE80-498C-942F-3D278B2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DADB15-3889-474A-9375-9AA6A21EF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CB0C0-22E9-46D4-9BDE-039B7FF87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E2F1-7651-41D2-87CB-B22426C2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5BF72-DF46-4150-88ED-82BFE69C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1A437-AEF6-42B1-ADF9-B7B91C77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76E80-6C9D-497B-9D57-BFDC0C7A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DD94F-00B4-4E76-B85D-3E72E4E6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1D3B8-A413-4612-BBB6-25EF1FB1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4B3A2-9374-409E-B763-7B5EC496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AED35-F7CA-4741-8FB6-1B72FCF4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79BD17-BA6A-4F4D-8A33-2DBB3534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300D9-FA82-4648-A967-411D060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E6410-0E39-4152-BA9A-7D70AA2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83D1-D4F0-4860-938E-9E9D102A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EF816-41CF-4F13-95EE-D9B1829EF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4DE85-D2D2-42FE-8022-2146A8E61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BF12-52D5-4657-A8F9-EE8184B6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F3ED-9464-4BD1-ABF3-83E65D30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5856-45F9-4E3D-8724-18A10980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A93A-3B44-493D-9093-1F31D30B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C209-766E-48DF-9F0E-4EE4D198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1A3A-8820-4D64-A5E8-167A7E7F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99AFB-65D9-4BA3-843A-E17DD002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C466-0271-4E75-BF4E-DABE13DC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F722-92A5-4329-B7DC-FC0B048C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671CC-F315-4A94-B694-EB373CF7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704B-FB47-4B4E-AF32-A402477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886D3-1EC7-40D3-951D-9E182FDD1F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F4B0-1682-41F1-8921-7D6F8A75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5C11-B347-43E0-A89F-6316F44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10E087-4165-4999-AB0E-498F63184F5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60243CE-021E-4617-A117-0918F4743EE8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0047EEC-7536-4ABE-AFAF-477D26C38B20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BD7CB714-7658-4A42-8BD5-990D1DC3A5ED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2132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3A404A9-EAF5-4A14-8ABA-2CE442600AC1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7D0D530-5B2B-4653-9AC8-47A7A9FF741A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thods of Persua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dorsements: actors/athle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or, slogans, jing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mping on the bandwag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oup ident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ing a trendset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dden f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itional Val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ognizing Ad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s are designed to look like non-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mercials appear to be a talk sh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azine ads look like arti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site ads may look like an im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say “Paid advertising” or “Paid programming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it focuses on one product, it is probably an 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ritical Thinking on Ad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caught my attention?  How does that connect to the produc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the ad influence me and react my emotion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oesn't the ad tell me about the produc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's in the fine pri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it too good to be true?  How can I research it furth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d Exampl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562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7386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28616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28800" y="50760"/>
            <a:ext cx="49528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0" y="382680"/>
            <a:ext cx="43434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thods of Persua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umers purchase based on feelings rather than f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itive Images: perfect lives because of the produ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ggerated or subjective clai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led puff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and After comparis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7:13:28Z</dcterms:created>
  <dc:creator>End User</dc:creator>
  <dc:description/>
  <dc:language>en-US</dc:language>
  <cp:lastModifiedBy>End User</cp:lastModifiedBy>
  <dcterms:modified xsi:type="dcterms:W3CDTF">2014-02-25T17:21:00Z</dcterms:modified>
  <cp:revision>2</cp:revision>
  <dc:subject/>
  <dc:title>Chapter 15 Section 2</dc:title>
</cp:coreProperties>
</file>