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ACF-C8B7-4B48-A5F5-FD85042E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399-7EFB-47BA-BE1B-4E8BD010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0A1-3C93-44F7-AB50-D4A73EC2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86C-0915-4535-B5CE-3619E93E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6113-369E-4B5F-A0A8-2337F468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8D6-44C7-4B58-B3D7-FA968254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3BB-A654-4DBA-98B4-D85F10E5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D4B-E3B9-4637-90E6-697A0C4C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521-C0A8-4C9C-8B60-EAE65C28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2EF-BF2F-40EE-A42D-AD0BFBFD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68C-D29E-4740-9409-E6DE69EA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C6E-0780-46BF-9841-2E6A086B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61949-4B08-4E3C-BA51-3909225F6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ions &amp; Sales Tac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S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ance (Inventory Reduction) – sale of excess unsold merchand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sonal – based on the time of year: back to school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ing out of business (liquidation) – only if a store is really going out of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iday and other sales – Labor Day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ss Lea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 priced below retailer's cost to attract customers to the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e money on the i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tores raise other items' prices to make up for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egal in some but not all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ce comparis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s display their price and another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another store's, a different manufacturer's item, or the suggested price of the manufactu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ward offered to encourage a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ons – amount off of an item ($ amount, percentage, or get one fre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bates – partial refund of the purchase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epstakes – contests; you shouldn't need to pay anything to enter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tle Selling 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2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frequently sold items are in the far cor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ing you'll find something on your way there 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rofitable items are at eye level or in a large aisle dis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mall profitable items are by the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 décor matches the target customers'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 is slow to keep there longer; faster to leave soo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s can calm or excite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al Sel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people – employees paid on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try to talk you into buying a higher priced version: called trading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marketing – phone call trying to sell you a product or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or-to-Door – traveling salespeople who come to your home to sell you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5:19:03Z</dcterms:created>
  <dc:creator>Mike Farver</dc:creator>
  <dc:description>Presentation Layout Template</dc:description>
  <dc:language>en-US</dc:language>
  <cp:lastModifiedBy/>
  <cp:revision>1</cp:revision>
  <dc:subject/>
  <dc:title>Blue and Grey</dc:title>
</cp:coreProperties>
</file>