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73A-8D04-47C3-A5EA-31589801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7E5-6247-4DA1-AD87-DC568632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9ACF-1DA1-444F-B146-46E56C67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D60-3524-4544-903B-CF071555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814-EF72-425F-9CFC-21584BC4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CA3-8701-46E5-B90B-29EC88E4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1D3-9483-4FB0-A2AC-8DBD76C2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3149-84F8-426D-80D2-69EECBE3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7EE-D7F6-4C46-B485-DD163181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E50-D12D-48B9-9D5D-4EFC6D4C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ADA-8441-481E-8253-7CAD511E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F6B-67FC-4CAB-B2E5-8CC13C3E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F2F28-9CF4-4E4C-B26B-291CE26B9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ions &amp; Sales Tac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S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ance (Inventory Reduction) – sale of excess unsold merchand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sonal – based on the time of year: back to school s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ing out of business (liquidation) – only if a store is really going out of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iday and other sales – Labor Day s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ss Lea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 priced below retailer's cost to attract customers to the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e money on the i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tores raise other items' prices to make up for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egal in some but not all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ce comparis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s display their price and another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another store's, a different manufacturer's item, or the suggested price of the manufactur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cen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ward offered to encourage a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pons – amount off of an item ($ amount, percentage, or get one fre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bates – partial refund of the purchase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epstakes – contests; you shouldn't need to pay anything to enter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btle Selling Meth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21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frequently sold items are in the far cor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ing you'll find something on your way there to b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rofitable items are at eye level or in a large aisle dis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small profitable items are by the reg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 décor matches the target customers'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 is slow to keep there longer; faster to leave soo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s can calm or excite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al Sel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speople – employees paid on com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try to talk you into buying a higher priced version: called trading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marketing – phone call trying to sell you a product or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or-to-Door – traveling salespeople who come to your home to sell you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15:19:03Z</dcterms:created>
  <dc:creator>Mike Farver</dc:creator>
  <dc:description>Presentation Layout Template</dc:description>
  <dc:language>en-US</dc:language>
  <cp:lastModifiedBy/>
  <cp:revision>1</cp:revision>
  <dc:subject/>
  <dc:title>Blue and Grey</dc:title>
</cp:coreProperties>
</file>