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7A4-0E97-4AC9-80A1-18BAED50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A20-669E-4389-93A3-EC83CA74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BAA-8281-4132-983A-CBBCEDFB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18D-CDB6-4FF5-B889-4FA470DD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BDC-4285-4B10-BC5B-5889BD7B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A35-9B63-4518-909A-061FE416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E29-B1CC-4246-AD89-CD91805B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DC9-4F49-4294-8A8D-A0FF330E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2E9D-C668-47D2-A40E-DECC740A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C01-133A-4968-B05A-CC1ACB8B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FD8-DE3E-45F9-BC73-76A9D5AE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281-C7AC-4E77-BF42-E5521C8D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419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19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000" y="6419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DB5C84-5623-42D5-9CEB-98DB5C05D92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554040"/>
            <a:ext cx="88567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hopp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tail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807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tores that sell produc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pecialize in a category of produc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63200" indent="-4240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: Best Buy, furniture store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Variety of brand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63200" indent="-4240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: JC Penny's, Boscov's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ower price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63200" indent="-4240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: Wal-Mart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evel/quality of servic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63200" indent="-4240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x: Macy's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Retail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80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arehouse club – sell to members in bulk, but selection of items may be small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am's Club, Costc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utlet stores (factory outlets) – items from only that manufacturer, usually at less than retail pric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Crossings, Vanity Fair, Rockvale Squar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actory seconds – could have slight damag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llie's Bargain Outle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aluating Retail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ayment forms accepte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ase of locating item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alesperson knowledg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rvices availab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pping at Ho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V, phone, Interne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nvenient and usually lower pric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atch for shipping rates (and on returns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ebsites can be attacked and steal your informatio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et Auc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39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ime limited listing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heck seller's feedback rating and fees/polici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Read the product description carefull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558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6:09:27Z</dcterms:created>
  <dc:creator>Mike Farver</dc:creator>
  <dc:description>Presentation Layout Template</dc:description>
  <dc:language>en-US</dc:language>
  <cp:lastModifiedBy/>
  <cp:revision>1</cp:revision>
  <dc:subject/>
  <dc:title>Light Blue Shapes</dc:title>
</cp:coreProperties>
</file>