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065F-D71F-4024-8E99-CF2012F03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60360" y="301320"/>
            <a:ext cx="82771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198a8a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8132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2560"/>
            <a:ext cx="8132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F243-ED9E-4C28-B08F-26D428622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60360" y="301320"/>
            <a:ext cx="82771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198a8a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3968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767960"/>
            <a:ext cx="3968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2560"/>
            <a:ext cx="3968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372560"/>
            <a:ext cx="3968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4F46-6615-483A-B379-37AE11A2E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60360" y="301320"/>
            <a:ext cx="82771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198a8a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2618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2960" y="1767960"/>
            <a:ext cx="2618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3000" y="1767960"/>
            <a:ext cx="2618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2560"/>
            <a:ext cx="2618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2960" y="4372560"/>
            <a:ext cx="2618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3000" y="4372560"/>
            <a:ext cx="2618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5BE5-051D-4244-B44D-4AACFF1AC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60360" y="301320"/>
            <a:ext cx="82771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198a8a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7960"/>
            <a:ext cx="8132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8CEC-99D5-4327-843E-CEABF2205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60360" y="301320"/>
            <a:ext cx="82771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198a8a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8132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DDCD-13F6-4482-B967-255942C8E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60360" y="301320"/>
            <a:ext cx="82771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198a8a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39686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767960"/>
            <a:ext cx="39686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4FE2-17F6-4E00-8659-85FD211CA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60360" y="301320"/>
            <a:ext cx="82771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198a8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DA9A-1770-4195-8138-EF4678404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60360" y="301320"/>
            <a:ext cx="827712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9A89-61BE-4D3D-81D7-9724FA892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60360" y="301320"/>
            <a:ext cx="82771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198a8a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3968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767960"/>
            <a:ext cx="39686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2560"/>
            <a:ext cx="3968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81AF-4C17-432E-99E0-DA6F06DE3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60360" y="301320"/>
            <a:ext cx="82771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198a8a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39686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767960"/>
            <a:ext cx="3968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372560"/>
            <a:ext cx="3968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FD37-D182-422A-9177-B0ABFE13D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60360" y="301320"/>
            <a:ext cx="82771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198a8a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3968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767960"/>
            <a:ext cx="3968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2560"/>
            <a:ext cx="8132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8FE9-69F4-4B2E-961E-E425AA61D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0360" y="301320"/>
            <a:ext cx="82771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198a8a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198a8a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7960"/>
            <a:ext cx="8132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1464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3536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7EAF28D-B5E8-40ED-B149-53A112CC5EF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0360" y="301680"/>
            <a:ext cx="8280360" cy="645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rran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tion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60000" y="301680"/>
            <a:ext cx="8280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198a8a"/>
                </a:solidFill>
                <a:latin typeface="Arial"/>
              </a:rPr>
              <a:t>Warranty</a:t>
            </a:r>
            <a:endParaRPr b="1" lang="en-US" sz="4400" spc="-1" strike="noStrike">
              <a:solidFill>
                <a:srgbClr val="198a8a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813600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guarantee of the soundness of a product or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ect you against faulty products and poor workman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60000" y="301680"/>
            <a:ext cx="8280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198a8a"/>
                </a:solidFill>
                <a:latin typeface="Arial"/>
              </a:rPr>
              <a:t>Implied Warranties</a:t>
            </a:r>
            <a:endParaRPr b="1" lang="en-US" sz="4400" spc="-1" strike="noStrike">
              <a:solidFill>
                <a:srgbClr val="198a8a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813600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d by state la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mise that every product sold is in working condition and does what it is intended to 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ler advises a customer a product can be used for a special service, otherwise, it can be retur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60000" y="301680"/>
            <a:ext cx="8280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198a8a"/>
                </a:solidFill>
                <a:latin typeface="Arial"/>
              </a:rPr>
              <a:t>Magnuson-Moss Warranty Act</a:t>
            </a:r>
            <a:endParaRPr b="1" lang="en-US" sz="4400" spc="-1" strike="noStrike">
              <a:solidFill>
                <a:srgbClr val="198a8a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813600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es only to products, not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ption of what is cove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manufacturer will do if def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is eligible for the warran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the warranty starts and leng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the owner must do to use warran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o complain about the warran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60000" y="301680"/>
            <a:ext cx="8280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198a8a"/>
                </a:solidFill>
                <a:latin typeface="Arial"/>
              </a:rPr>
              <a:t>Full and Limited Warranties</a:t>
            </a:r>
            <a:endParaRPr b="1" lang="en-US" sz="4400" spc="-1" strike="noStrike">
              <a:solidFill>
                <a:srgbClr val="198a8a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813600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ll – meets 5 standards of a comprehensive warran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725480" indent="-573120">
              <a:lnSpc>
                <a:spcPct val="93000"/>
              </a:lnSpc>
              <a:spcAft>
                <a:spcPts val="1137"/>
              </a:spcAft>
              <a:buClr>
                <a:srgbClr val="800000"/>
              </a:buClr>
              <a:buSzPct val="75000"/>
              <a:buFont typeface="Symbol" charset="2"/>
              <a:buChar char="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still have restri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mited – does not meet 1 or more of the 5 stand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841400" y="4606920"/>
          <a:ext cx="5078160" cy="2334960"/>
        </p:xfrm>
        <a:graphic>
          <a:graphicData uri="http://schemas.openxmlformats.org/drawingml/2006/table">
            <a:tbl>
              <a:tblPr/>
              <a:tblGrid>
                <a:gridCol w="5078160"/>
              </a:tblGrid>
              <a:tr h="6159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Extended to anyone who owns it during the peri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764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No cost for warranty serv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7764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Only have to notify the company of the probl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59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Replacement after a reasonable # of attempts at repai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7764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Does not limit the duration of implied warran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60000" y="301320"/>
            <a:ext cx="8278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198a8a"/>
                </a:solidFill>
                <a:latin typeface="Arial"/>
              </a:rPr>
              <a:t>Keeping Up a Warranty</a:t>
            </a:r>
            <a:endParaRPr b="1" lang="en-US" sz="4400" spc="-1" strike="noStrike">
              <a:solidFill>
                <a:srgbClr val="198a8a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13420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558720" indent="-55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872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d to be written if over $15 to purch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8720" indent="-55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872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ister the produ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8720" indent="-55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872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ep the receipt and date of installation with the registration c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8720" indent="-55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872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product for only the intended purp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8720" indent="-55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872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 maintenance as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60000" y="301320"/>
            <a:ext cx="8278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198a8a"/>
                </a:solidFill>
                <a:latin typeface="Arial"/>
              </a:rPr>
              <a:t>Using a Warranty</a:t>
            </a:r>
            <a:endParaRPr b="1" lang="en-US" sz="4400" spc="-1" strike="noStrike">
              <a:solidFill>
                <a:srgbClr val="198a8a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13420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558720" indent="-55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872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it breaks or is defective, look at the warran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8720" indent="-55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872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 the instructions for getting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8720" indent="-55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872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problem is not resolved, complain to the manufactur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8720" indent="-55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872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y are not helpful, contact the PA consumer protection ag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60000" y="301320"/>
            <a:ext cx="8278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198a8a"/>
                </a:solidFill>
                <a:latin typeface="Arial"/>
              </a:rPr>
              <a:t>Service Contracts</a:t>
            </a:r>
            <a:endParaRPr b="1" lang="en-US" sz="4400" spc="-1" strike="noStrike">
              <a:solidFill>
                <a:srgbClr val="198a8a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13420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558720" indent="-55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872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 called an extended warran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8720" indent="-55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872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usually be purchased at a later 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8720" indent="-55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872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ts advise that they are not usually necess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0000" y="301320"/>
            <a:ext cx="8278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198a8a"/>
                </a:solidFill>
                <a:latin typeface="Arial"/>
              </a:rPr>
              <a:t>Evaluating an Extended Warranty</a:t>
            </a:r>
            <a:endParaRPr b="1" lang="en-US" sz="4400" spc="-1" strike="noStrike">
              <a:solidFill>
                <a:srgbClr val="198a8a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182520" y="1736640"/>
          <a:ext cx="8505360" cy="4571640"/>
        </p:xfrm>
        <a:graphic>
          <a:graphicData uri="http://schemas.openxmlformats.org/drawingml/2006/table">
            <a:tbl>
              <a:tblPr/>
              <a:tblGrid>
                <a:gridCol w="8505360"/>
              </a:tblGrid>
              <a:tr h="8143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Does the extended warranty cover more than the usual warranty?  Is it longer than the usual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04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Would a repair be cheaper than the warranty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49068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Would this product require expensive repairs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068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How long do I plan to keep this product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49068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How do I get service on this contract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1468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Is any required maintenance necessary? Does it have a schedule to follow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49068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How much is this contract?  Are there additional costs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888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Who provides the service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7T11:50:26Z</dcterms:created>
  <dc:creator>Mike Farver</dc:creator>
  <dc:description>Presentation Layout Template</dc:description>
  <dc:language>en-US</dc:language>
  <cp:lastModifiedBy/>
  <cp:revision>1</cp:revision>
  <dc:subject/>
  <dc:title>Rounded Rectangles</dc:title>
</cp:coreProperties>
</file>