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EAAB-142F-494A-A330-68FF8F733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78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9640" y="4161960"/>
            <a:ext cx="8278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21DA-9174-49BF-A137-02B2AABE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964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6E1A-85A7-4446-86EE-DF84C8AF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8640" y="198432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8000" y="198432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9640" y="416196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8640" y="416196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8000" y="416196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FE9F-DF2F-4F5B-BF81-65AF29487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9640" y="1984320"/>
            <a:ext cx="8278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ACEE-7562-4544-A993-089CDCD3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78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E38D-61BD-4397-B579-20A220EA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8B1B-ECDC-4116-BB5A-D85EE23A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A657-8710-4BB2-BCBA-6D6D3935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553680"/>
            <a:ext cx="86392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3E3E-28F7-4180-8F0D-1808F962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964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5251-5ACE-4313-BF05-01959E88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446D-91D9-4240-9D4D-75AB951B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9640" y="4161960"/>
            <a:ext cx="8278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B509-02D2-4B22-9619-D03FD9BC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9640" y="1984320"/>
            <a:ext cx="8278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2720" y="6454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454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3360" y="6454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C4CCD-5969-41EF-A8DF-71063DBBD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0720" y="554040"/>
            <a:ext cx="8640720" cy="56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the Best Bu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Have a Shopping Plan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what you need and 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, size, quantity,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your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debt, importance of the item, how often and long you'll us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o b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 until you have cash for it, or during a s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Research the Item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current owners, or read reviews o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with consumer information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 Reports, Consumer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stores or check online for p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t the store and try it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omparison Shopping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several alternatives of a big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brand, style, size,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not take long but can save big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Different Brand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– well known nationally advertised br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son &amp; John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 – sold only at a chain of stores, called private lab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te, Up &amp;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in label with no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Make Shopping Coun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 the amount of savings versus the time spent resear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compare gas pri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4:37:07Z</dcterms:created>
  <dc:creator>Mike Farver</dc:creator>
  <dc:description>Presentation Layout Template</dc:description>
  <dc:language>en-US</dc:language>
  <cp:lastModifiedBy/>
  <cp:revision>1</cp:revision>
  <dc:subject/>
  <dc:title>White Blue and Lightnings</dc:title>
</cp:coreProperties>
</file>