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B9D-9D1C-4E80-9D3B-E4DBB870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317-D30D-47DC-AAB7-D3996CB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B7E-0117-42C7-A710-B4418807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269-4A34-4EEF-B5A5-BB40AD4F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192-7CC1-4148-AD4B-8B702F57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3D6-47FE-4A82-987D-12E58D4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E80-75D5-4516-99E2-FB133C62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A01-7D5C-4242-81C4-9D24D27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62C-BFA1-49B2-9348-E4FB389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76D-29FE-4EF5-B260-6911FBB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DD9-0526-44FA-9019-198E6B6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EDA-2B61-442D-97AF-A05F653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7BEF4-5C55-4DC7-9182-DC3F84B4B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pping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y Services are Differen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s may be wide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cannot be easily determ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include paperwork before it is perfor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not be un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your need first to be knowledg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candi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friends and family for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ir qualification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ing them (ex. child ca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a sample of work (ex. Contrac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for references (ex. General small busine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for a license or certification (ex. Hair stylis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ify they are insured and bonded (ex. mov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with the BBB for compl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nded – insurance to cover financial loss to you caused by a 3</a:t>
            </a:r>
            <a:r>
              <a:rPr b="0" lang="en-US" sz="3200" spc="-1" strike="noStrike" baseline="33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oosing a Service Provid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an estimate in 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what happens if the estimate is higher or lower than the actu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k Orders and Contract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Order – work to be performed, usually with a cost, and authorizes them to complete th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t – legally binding agreement between 2 or more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info of service provi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 of work and clean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imated dates of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 cost and payment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verbal promises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t 'r Don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positive communication during th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k and answer any questions that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be flexible as problems ar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 the provider if you aren't satisfied or if they don't honor the con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consumer protection officials if there is still a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6:13:37Z</dcterms:created>
  <dc:creator>Mike Farver</dc:creator>
  <dc:description>Presentation Layout Template</dc:description>
  <dc:language>en-US</dc:language>
  <cp:lastModifiedBy/>
  <cp:revision>1</cp:revision>
  <dc:subject/>
  <dc:title>Notebook</dc:title>
</cp:coreProperties>
</file>