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129-255A-4620-B178-6345AD38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659-BE23-4095-9705-3CCB4D4B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4C5-0FC1-4019-AF2C-AE2FD79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6D5-7887-4839-BE36-BE6AF7D8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CFA-8E54-48F3-BBD1-5325174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0FC-70A6-4E5A-B6DC-76C299F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C51-3434-4062-A50C-E46D6558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CE2-4054-4406-AE02-C09A524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3649-A757-4BDB-AD40-664FDB7D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9DF-1D61-410A-B758-DD1EA08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03F-1DD3-42CD-89FF-A9E655C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A96-D2D0-4774-BE35-51CDDE01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D5AE63-8AA4-4B69-B17D-8E6F670F2E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hopp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tores that sell produc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pecialize in a category of produ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Best Buy, furniture stor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ariety of bran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JC Penny's, Boscov'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ower pric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Wal-Mar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evel/quality of serv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Macy's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rehouse club – sell to members in bulk, but selection of items may be smal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am's Club, Cost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utlet stores (factory outlets) – items from only that manufacturer, usually at less than retail pr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Crossings, Vanity Fair, Rockvale Squ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actory seconds – could have slight damag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llie's Bargain Outle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ng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yment forms accept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ase of locating i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esperson knowledg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rvices availab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pping at Ho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V, phone, Interne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venient and usually lower pri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tch for shipping rates (and on returns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ebsites can be attacked and steal your inform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u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limited list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eck seller's feedback rating and fees/polici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ad the product description carefull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09:27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