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83D-B87A-4B76-92D5-78357562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24-4B64-4A60-88E8-1D6DD855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2391-21E5-436E-907C-E352E62C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E6A-6685-4811-BF01-D3B9332E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8FB-DACF-40B4-B201-8BF6A3D5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A07-5894-4407-B981-82772E2A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B89-7BA6-4DBB-8E60-82A903D7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F6E-1537-44B4-84FC-61D95982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5DF-780F-4161-9CDA-E89BC86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872-279C-477C-9415-FEF9662C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8C37-DD29-4AF7-B10A-2C4373A4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99C-FF1C-4608-B48D-50278E13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C2415B-7AA5-47B4-B421-23BC9AC4BB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hopp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tores that sell produc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pecialize in a category of produ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Best Buy, furniture stor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ariety of bran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JC Penny's, Boscov'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ower pric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Wal-Mar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evel/quality of serv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Macy's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rehouse club – sell to members in bulk, but selection of items may be smal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am's Club, Cost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utlet stores (factory outlets) – items from only that manufacturer, usually at less than retail pr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Crossings, Vanity Fair, Rockvale Squ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actory seconds – could have slight damag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llie's Bargain Outle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ng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yment forms accept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ase of locating i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esperson knowledg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rvices availab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pping at Ho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V, phone, Interne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venient and usually lower pri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tch for shipping rates (and on returns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ebsites can be attacked and steal your inform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u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limited list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eck seller's feedback rating and fees/polici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ad the product description carefull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09:27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