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999-304E-4B0F-9716-57CC398D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D0A-EB3D-4458-B031-239229F9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965-75B8-459F-9330-0EACD7FA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01A-24C3-46F4-8CC7-5B268746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7E8-1926-409B-BDC9-2143704C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A18-94C4-4234-A0C3-54E72626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296-9DE2-4E53-A121-21C932B7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DD4A-1E31-489D-B3B9-F7CF1606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01320"/>
            <a:ext cx="82771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9C3-21C5-406E-AF87-53D18605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8F3-B334-4BB7-83B1-7B244B7E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2FB4-80EC-4857-B8A0-0EFD60A7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E8A-A69A-4717-8DD7-1E2FD642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1464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3536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B6F550-643B-43D5-ADE8-89DAD55598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01680"/>
            <a:ext cx="8280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arantee of the soundness of a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you against faulty products and poor workma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Implied Warrantie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stat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 that every product sold is in working condition and does what it is intende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er advises a customer a product can be used for a special service, otherwise, it can be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Magnuson-Moss Warranty Ac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only to products, no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what is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nufacturer will do if de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eligible for th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arranty starts and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owner must do to us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lain about th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Full and Limited Warrantie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– meets 5 standards of a comprehensiv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till have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– does not meet 1 or more of the 5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841400" y="4606920"/>
          <a:ext cx="5078160" cy="2334960"/>
        </p:xfrm>
        <a:graphic>
          <a:graphicData uri="http://schemas.openxmlformats.org/drawingml/2006/table">
            <a:tbl>
              <a:tblPr/>
              <a:tblGrid>
                <a:gridCol w="5078160"/>
              </a:tblGrid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xtended to anyone who owns it during the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 cost for warranty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nly have to notify the company of the 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placement after a reasonable # of attempts at 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oes not limit the duration of implied warran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eping Up a 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1342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o be written if over $15 to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receipt and date of installation with the registration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roduct for only the intended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maintenance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Using a 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1342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breaks or is defective, look at th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instructions for gett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roblem is not resolved, complain to the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are not helpful, contact the PA consumer protection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Service Contract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1342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an extended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ually be purchased at a later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s advise that they are not usually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Evaluating an Extended 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520" y="1736640"/>
          <a:ext cx="8505360" cy="4571640"/>
        </p:xfrm>
        <a:graphic>
          <a:graphicData uri="http://schemas.openxmlformats.org/drawingml/2006/table">
            <a:tbl>
              <a:tblPr/>
              <a:tblGrid>
                <a:gridCol w="8505360"/>
              </a:tblGrid>
              <a:tr h="8143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oes the extended warranty cover more than the usual warranty?  Is it longer than the usu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ould a repair be cheaper than the warrant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ould this product require expensive repai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w long do I plan to keep this produ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w do I get service on this contra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s any required maintenance necessary? Does it have a schedule to foll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w much is this contract?  Are there additional cost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ho provides the servi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1:50:26Z</dcterms:created>
  <dc:creator>Mike Farver</dc:creator>
  <dc:description>Presentation Layout Template</dc:description>
  <dc:language>en-US</dc:language>
  <cp:lastModifiedBy/>
  <cp:revision>1</cp:revision>
  <dc:subject/>
  <dc:title>Rounded Rectangles</dc:title>
</cp:coreProperties>
</file>