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CC8B-D2BA-40A8-92C1-2794D70F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132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2560"/>
            <a:ext cx="8132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E0A4-FA8A-46BE-BEC7-E0DA3AA6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2CAA-00B5-4A47-84E2-7D9C831B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960" y="17679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3000" y="17679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25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960" y="43725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3000" y="43725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D342-6A29-4574-A658-6DC068AA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8132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63B-6344-4F33-A732-6BBC4DAB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132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5AF6-09BD-4080-8EBE-CFD8F72E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4F7-9413-4769-8C5F-12F55F97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61A1-2215-45ED-B200-48E62C90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301320"/>
            <a:ext cx="82771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0222-C7F1-4C02-980A-7E5F9053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F88-DABB-46E1-8C47-C0938ECB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DBA0-D46C-430C-9CD2-2A74A040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8132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3C57-4EFD-449F-B008-E12165F0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8132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1464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3536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1A7F4F-0E76-4545-90CF-BB7532E90ED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301680"/>
            <a:ext cx="828036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ran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000" y="301680"/>
            <a:ext cx="8280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Warranty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uarantee of the soundness of a product o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 you against faulty products and poor workma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301680"/>
            <a:ext cx="8280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Implied Warranties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 state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ise that every product sold is in working condition and does what it is intended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ler advises a customer a product can be used for a special service, otherwise, it can be ret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301680"/>
            <a:ext cx="8280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Magnuson-Moss Warranty Ac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es only to products, no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what is 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nufacturer will do if de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eligible for the warr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warranty starts and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 owner must do to use warr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mplain about the warr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301680"/>
            <a:ext cx="8280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Full and Limited Warranties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– meets 5 standards of a comprehensive warr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till have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– does not meet 1 or more of the 5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841400" y="4606920"/>
          <a:ext cx="5078160" cy="2334960"/>
        </p:xfrm>
        <a:graphic>
          <a:graphicData uri="http://schemas.openxmlformats.org/drawingml/2006/table">
            <a:tbl>
              <a:tblPr/>
              <a:tblGrid>
                <a:gridCol w="5078160"/>
              </a:tblGrid>
              <a:tr h="6159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xtended to anyone who owns it during the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o cost for warranty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nly have to notify the company of the 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Replacement after a reasonable # of attempts at rep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oes not limit the duration of implied warran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301320"/>
            <a:ext cx="8278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Keeping Up a Warranty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1342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to be written if over $15 to purc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th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he receipt and date of installation with the registration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roduct for only the intended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maintenance a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301320"/>
            <a:ext cx="8278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Using a Warranty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1342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breaks or is defective, look at the warr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instructions for getting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roblem is not resolved, complain to the manufactu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y are not helpful, contact the PA consumer protection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301320"/>
            <a:ext cx="8278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Service Contracts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1342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an extended warr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ually be purchased at a later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s advise that they are not usually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000" y="301320"/>
            <a:ext cx="8278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Evaluating an Extended Warranty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82520" y="1736640"/>
          <a:ext cx="8505360" cy="4571640"/>
        </p:xfrm>
        <a:graphic>
          <a:graphicData uri="http://schemas.openxmlformats.org/drawingml/2006/table">
            <a:tbl>
              <a:tblPr/>
              <a:tblGrid>
                <a:gridCol w="8505360"/>
              </a:tblGrid>
              <a:tr h="8143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oes the extended warranty cover more than the usual warranty?  Is it longer than the usu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0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Would a repair be cheaper than the warrant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90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Would this product require expensive repair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w long do I plan to keep this produc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90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w do I get service on this contrac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Is any required maintenance necessary? Does it have a schedule to follow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90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w much is this contract?  Are there additional cost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Who provides the servic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1:50:26Z</dcterms:created>
  <dc:creator>Mike Farver</dc:creator>
  <dc:description>Presentation Layout Template</dc:description>
  <dc:language>en-US</dc:language>
  <cp:lastModifiedBy/>
  <cp:revision>1</cp:revision>
  <dc:subject/>
  <dc:title>Rounded Rectangles</dc:title>
</cp:coreProperties>
</file>