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EC10-1148-4B10-8420-89D4F6377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8278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99640" y="4161960"/>
            <a:ext cx="8278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9B62-2FFC-4041-AB23-5E7E7E710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1880" y="198432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99640" y="416196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1880" y="416196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0406-8ED5-4994-B20D-F28E1CB86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26654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8640" y="1984320"/>
            <a:ext cx="26654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8000" y="1984320"/>
            <a:ext cx="26654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99640" y="4161960"/>
            <a:ext cx="26654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8640" y="4161960"/>
            <a:ext cx="26654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8000" y="4161960"/>
            <a:ext cx="26654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BB70-4281-42E5-AF5C-986B01D08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99640" y="1984320"/>
            <a:ext cx="82789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D7BE-6681-4A41-ACE6-219BB64F4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82789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9FE5-E665-4E5F-B230-8061EF6C1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40399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1880" y="1984320"/>
            <a:ext cx="40399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215A-850E-4113-B035-AB2B3161D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838A-E2A9-4280-BF70-B61149540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0720" y="553680"/>
            <a:ext cx="86392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0E39-CE2A-4A6B-875C-9B452FA4E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880" y="1984320"/>
            <a:ext cx="40399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99640" y="416196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70A0-3342-47AC-BF00-093A17AF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40399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880" y="198432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1880" y="416196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3DA5-D99D-4D81-B42E-52FC4E27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1880" y="198432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99640" y="4161960"/>
            <a:ext cx="8278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9BBC-9E63-45A4-B91D-DB797772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99640" y="1984320"/>
            <a:ext cx="82789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7000"/>
          </a:bodyPr>
          <a:p>
            <a:pPr marL="3326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2720" y="6454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45480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83360" y="6454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C77051-207B-4C18-8893-AB5E8438F7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20720" y="554040"/>
            <a:ext cx="8640720" cy="56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ing the Best Bu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tion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4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Have a Shopping Plan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828036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what you need and w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10000" indent="-567360">
              <a:lnSpc>
                <a:spcPct val="93000"/>
              </a:lnSpc>
              <a:spcAft>
                <a:spcPts val="1137"/>
              </a:spcAft>
              <a:buClr>
                <a:srgbClr val="ff336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, size, quantity,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your bud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10000" indent="-567360">
              <a:lnSpc>
                <a:spcPct val="93000"/>
              </a:lnSpc>
              <a:spcAft>
                <a:spcPts val="1137"/>
              </a:spcAft>
              <a:buClr>
                <a:srgbClr val="ff336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debt, importance of the item, how often and long you'll us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o bu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10000" indent="-567360">
              <a:lnSpc>
                <a:spcPct val="93000"/>
              </a:lnSpc>
              <a:spcAft>
                <a:spcPts val="1137"/>
              </a:spcAft>
              <a:buClr>
                <a:srgbClr val="ff336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ay until you have cash for it, or during a s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4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Research the Item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828036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current owners, or read reviews on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with consumer information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336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umer Reports, Consumer Gu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 stores or check online for pr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it the store and try it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4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Comparison Shopping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828036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several alternatives of a big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336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brand, style, size, s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not take long but can save big mo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4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Different Brands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8280360" cy="4292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– well known nationally advertised br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10000" indent="-567360">
              <a:lnSpc>
                <a:spcPct val="93000"/>
              </a:lnSpc>
              <a:spcAft>
                <a:spcPts val="1137"/>
              </a:spcAft>
              <a:buClr>
                <a:srgbClr val="ff336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son &amp; John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e – sold only at a chain of stores, called private lab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10000" indent="-567360">
              <a:lnSpc>
                <a:spcPct val="93000"/>
              </a:lnSpc>
              <a:spcAft>
                <a:spcPts val="1137"/>
              </a:spcAft>
              <a:buClr>
                <a:srgbClr val="ff336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te, Up &amp;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10000" indent="-567360">
              <a:lnSpc>
                <a:spcPct val="93000"/>
              </a:lnSpc>
              <a:spcAft>
                <a:spcPts val="1137"/>
              </a:spcAft>
              <a:buClr>
                <a:srgbClr val="ff336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in label with no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4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Make Shopping Count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828036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igh the amount of savings versus the time spent resear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compare gas pric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7T14:37:07Z</dcterms:created>
  <dc:creator>Mike Farver</dc:creator>
  <dc:description>Presentation Layout Template</dc:description>
  <dc:language>en-US</dc:language>
  <cp:lastModifiedBy/>
  <cp:revision>1</cp:revision>
  <dc:subject/>
  <dc:title>White Blue and Lightnings</dc:title>
</cp:coreProperties>
</file>