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2FD-3A1E-4235-8A5D-F8CB341B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7DE-FF6D-4362-BB49-381B29F7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FB6-2561-495A-BF60-B85777AE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E47-91E8-4A09-9D89-4FA45E8C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EFE-1911-4F17-ABDB-AA8C1023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7B3-802C-4119-9F3E-3D2A152B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4BF-BBE8-49A8-A289-4172B689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1DC-9D92-42DF-93F0-7C1E633C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97B-CC80-4F85-A3F5-E43480F9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EC2-4CF7-4148-91AE-7D28B74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863-FC56-488D-A695-471152DE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641-81F6-462D-8BDC-D448710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00BED-CA61-4C35-837F-8EA527995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54040"/>
            <a:ext cx="864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Best Bu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ave a Shopping Pla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you need and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, size, quantity,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you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debt, importance of the item, how often and long you'll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until you have cash for it, or during a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Research the Item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current owners, or read review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with consumer informatio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Reports, Consum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stores or check online fo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the store and try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omparison Shopp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everal alternatives of a bi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rand, style, size,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take long but can save big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ifferent Brand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– well known nationally advertised b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son &amp;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– sold only at a chain of stores, called privat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e, Up &amp;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label with n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ake Shopping Cou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 the amount of savings versus the time spent re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ompare gas p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37:07Z</dcterms:created>
  <dc:creator>Mike Farver</dc:creator>
  <dc:description>Presentation Layout Template</dc:description>
  <dc:language>en-US</dc:language>
  <cp:lastModifiedBy/>
  <cp:revision>1</cp:revision>
  <dc:subject/>
  <dc:title>White Blue and Lightnings</dc:title>
</cp:coreProperties>
</file>