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3392-2EB3-4473-9CA8-5367AC998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3ED2-E5EF-4398-A987-E933B953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BDF4-85A7-405E-B0D1-2D927ADD1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30B3-E334-4707-B528-016C2615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853A-F241-4F57-AEAE-124F2569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AD7F-0FD5-4B22-89C2-5282F940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DE6B-0664-42B6-8123-D2895C93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95C7-9484-4DF6-B95E-B02B35DE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36B0-0BB9-4202-961A-1CE4511C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CA0C-0CDA-493B-B066-DC3A8E98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2A98-0C01-4E10-A770-CAACC92A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E56C-7662-4528-AEE2-563F3B5F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600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945FDE-ACC5-40D2-B90B-884A3E90F8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pping for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tion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y Services are Differen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ces may be widely differ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ality cannot be easily determi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include paperwork before it is perform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not be und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hoosing a Service Provider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earch your need first to be knowledge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candid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3333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k friends and family for recommend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hoosing a Service Provider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ck their qualifications 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3333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viewing them (ex. child car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3333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e a sample of work (ex. Contrac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3333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k for references (ex. General small business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3333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ck for a license or certification (ex. Hair stylis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3333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ify they are insured and bonded (ex. move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3333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ck with the BBB for compla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nded – insurance to cover financial loss to you caused by a 3</a:t>
            </a:r>
            <a:r>
              <a:rPr b="0" lang="en-US" sz="3200" spc="-1" strike="noStrike" baseline="33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ar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hoosing a Service Provider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 an estimate in wri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3333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k what happens if the estimate is higher or lower than the actual c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k Orders and Contract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 Order – work to be performed, usually with a cost, and authorizes them to complete the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act – legally binding agreement between 2 or more par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3333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ct info of service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3333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ription of work and clean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3333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imated dates of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3333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tal cost and payment schedu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3333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y verbal promises m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it 'r Don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tain positive communication during the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k and answer any questions that ar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y to be flexible as problems ar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 with the provider if you aren't satisfied or if they don't honor the contr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act consumer protection officials if there is still a prob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9T16:13:37Z</dcterms:created>
  <dc:creator>Mike Farver</dc:creator>
  <dc:description>Presentation Layout Template</dc:description>
  <dc:language>en-US</dc:language>
  <cp:lastModifiedBy/>
  <cp:revision>1</cp:revision>
  <dc:subject/>
  <dc:title>Notebook</dc:title>
</cp:coreProperties>
</file>