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0AA-1333-49E4-A2B4-1E8876F0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48C-DF47-4A32-87A4-AED8DEA5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246-6DF5-4F23-8902-ED0C6DE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204-EE16-4234-A8A1-19668D04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625-37AE-456D-BCEC-0CFA5C26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434-EBFA-4C17-A9D7-F1EA49C5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DE1-7EC9-408C-AF0D-EBCBE2FA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834-44BC-488A-9DA0-51945C63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5CD-0679-47A1-BF02-BCC9D9EA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2A8-36BD-4E5E-B76B-47C13D86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774-FFF2-4D66-B423-D25E729A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37D-6AF2-4872-81A4-6DAA3ED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8B835-BB4A-4FE4-850C-09AE0798C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pping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y Services are Differen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s may be wide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cannot be easily determ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include paperwork before it is perfor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not be un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your need first to be knowledge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candi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friends and family for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ir qualification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ing them (ex. child c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a sample of work (ex. Contrac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for references (ex. General small busine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for a license or certification (ex. Hair styli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ify they are insured and bonded (ex. mov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with the BBB for compl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ded – insurance to cover financial loss to you caused by a 3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 estimate in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what happens if the estimate is higher or lower than the actual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k Orders and Contrac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Order – work to be performed, usually with a cost, and authorizes them to complete th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ct – legally binding agreement between 2 or more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info of 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 of work and clean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d dates of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cost and payment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verbal promises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t 'r Don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positive communication during th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and answer any questions that a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be flexible as problems a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with the provider if you aren't satisfied or if they don't honor the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consumer protection officials if there is still a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6:13:37Z</dcterms:created>
  <dc:creator>Mike Farver</dc:creator>
  <dc:description>Presentation Layout Template</dc:description>
  <dc:language>en-US</dc:language>
  <cp:lastModifiedBy/>
  <cp:revision>1</cp:revision>
  <dc:subject/>
  <dc:title>Notebook</dc:title>
</cp:coreProperties>
</file>