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BAF59-8110-40C8-A371-AA8C9F2A1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A45FE-7636-417A-8C15-342E4BC45B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9F37-7E4A-4BE7-A38C-D832B64E6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873C1-91DC-494A-86AC-451454793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C0184-8457-4011-BD58-6DDC36A07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4E6-8219-400B-AE13-F8B506AA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C382-A62C-4625-9D89-A4D0FFD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48E-0F8E-44C8-8FE2-ABE5BBBB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1654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99200"/>
            <a:ext cx="291996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3B-1A1F-4E1D-931D-3892651C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1C7-010F-4DF9-A18D-2FE2DE62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904-5958-4525-843D-761D1279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567-ECE6-4D9F-A4BB-3AECEF55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42B-C6B4-4E0F-8BD5-A1B8D510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98C-0736-41C2-84D4-B189DFDF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3E6-0683-45BD-8D04-4D27EE72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992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1EF-CBFC-49F3-AEC7-98270C0E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65400"/>
            <a:ext cx="442584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99200"/>
            <a:ext cx="906948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5DE-A15B-4844-9AD1-8EF9102C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AB57A9-8DDA-457F-AEB9-AF6D24F0E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655200"/>
            <a:ext cx="906948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pter 18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tion 1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othing Decision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http://styleslides.com/wp-content/uploads/2014/01/Fashion-Ad-1-Midtown.jpg"/>
          <p:cNvPicPr/>
          <p:nvPr/>
        </p:nvPicPr>
        <p:blipFill>
          <a:blip r:embed="rId1"/>
          <a:stretch/>
        </p:blipFill>
        <p:spPr>
          <a:xfrm>
            <a:off x="1230480" y="2408400"/>
            <a:ext cx="784044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drob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drobe – collection of clothes, shoes, and  accessories you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ies – scarves, ties, jewelry, belts, and h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your current wardrobe meet all of your nee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it al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http://bteen.files.wordpress.com/2013/12/bteen_wardrobeupdate_1.jpeg"/>
          <p:cNvPicPr/>
          <p:nvPr/>
        </p:nvPicPr>
        <p:blipFill>
          <a:blip r:embed="rId1"/>
          <a:stretch/>
        </p:blipFill>
        <p:spPr>
          <a:xfrm>
            <a:off x="1763640" y="1874880"/>
            <a:ext cx="65451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ysical Factors on Cloth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– cold, warm, rain, and snow all change your clo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 – protective gear, spikes, high t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fort – looser fit for activities, on your feet all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2165400"/>
            <a:ext cx="907092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choose your cloth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f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test Sty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cial Fac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hion Trends – look or style popular at a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– brand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asions – wedding, funeral, job int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ess codes – business casual, casual,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2.bp.blogspot.com/-t2PwNLE9EPY/Tm1owH32tKI/AAAAAAAAFtc/wLUFPrSM-xE/s1600/fashion%2Bsilhouettes.jpg"/>
          <p:cNvPicPr/>
          <p:nvPr/>
        </p:nvPicPr>
        <p:blipFill>
          <a:blip r:embed="rId1"/>
          <a:stretch/>
        </p:blipFill>
        <p:spPr>
          <a:xfrm>
            <a:off x="696960" y="426960"/>
            <a:ext cx="873432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t I’ve Got NOTHING to Wear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Organizing a Wardrob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out items you don’t w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n’t I wear it?  Stains, wrinkled, worn?  Wrong size?  Did I forget about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a solution to th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ate or sell unwanted items -&gt; Yard S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needs to be added to complete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tting More out of Your Wardrob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clothes, make alterations, go to the thrift 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classics – plain co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items good for multiple occa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combinations – vests, undershi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2 or 3 colors as the basis for your wardro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ome access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6:08:34Z</dcterms:created>
  <dc:creator>Mike Farver</dc:creator>
  <dc:description>Presentation Layout Template</dc:description>
  <dc:language>en-US</dc:language>
  <cp:lastModifiedBy>End User</cp:lastModifiedBy>
  <dcterms:modified xsi:type="dcterms:W3CDTF">2014-03-31T13:01:16Z</dcterms:modified>
  <cp:revision>8</cp:revision>
  <dc:subject/>
  <dc:title>Blue Lines and Gradients</dc:title>
</cp:coreProperties>
</file>