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B37D9-2D05-4648-9FA7-47952CA80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23C29-FD1D-41F0-883F-AFB918CC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20DA6-9C3A-48E6-9057-BEDAF6880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BFB6-98DA-42C7-83BC-1A425C023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ABA02-9347-4047-819E-A7B66441F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80D88-C913-429B-A36B-CC0A8C82A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C46ED-F4A1-41EE-AA7C-F3F24A3CF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F9130-A673-4C11-923F-3AAB75F6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79EF9-39F5-4045-9504-11B81F9CB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48C7F-4800-4A5B-B1EB-5BCDFF91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270-7C67-4515-9D0A-DE3F2C79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B77-AE45-4A43-91F2-B3F78B3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35F-2415-46B8-A817-4450229E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50D-8E4E-405C-8FD7-39CDBD9A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5EA-A126-4496-9381-AF256A4B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7265-AAE9-4EF9-BA93-B262B15F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1B3-0E57-4BCD-A1E9-02D97C2F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2A1-93A0-49A2-B65E-DB1BB93E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119-B452-4504-A341-1F678E88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5E7-00AF-4CD7-8153-A307AA5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BBE-6F22-4D06-AE88-8459782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76A-5156-46C2-83CE-5C3C169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254923-23A7-427E-B07E-1A072DEA5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720720" y="554040"/>
            <a:ext cx="409104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cdn.simplifiedbuilding.com/legacy/sbcv1/blog/wp-content/uploads/2009/03/store.jpg"/>
          <p:cNvPicPr/>
          <p:nvPr/>
        </p:nvPicPr>
        <p:blipFill>
          <a:blip r:embed="rId1"/>
          <a:stretch/>
        </p:blipFill>
        <p:spPr>
          <a:xfrm>
            <a:off x="3363840" y="2712960"/>
            <a:ext cx="609624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Labe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includ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, store, or brand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fiber b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of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and price may be on a store hang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here to Shop?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ty clothing stores – big &amp; tall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rt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stores – Burlington Coat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e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ift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gnment store – part of the sale pri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s to the original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 &amp; Internet 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– is it easy to move around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– colors and designs may compliment you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s look slender, lights look heav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s add height, horizontal lines add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go with accessories and other clot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seams and hems straight and sewed dow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uttons secure and line up with h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pockets straight with reinforced corn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elt loops reinfor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75440" indent="-55584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zipper work smooth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aluating Clothes for Purchas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caftansandmalbec.files.wordpress.com/2012/10/screen-shot-2012-10-21-at-8-41-18-pm1.png"/>
          <p:cNvPicPr/>
          <p:nvPr/>
        </p:nvPicPr>
        <p:blipFill>
          <a:blip r:embed="rId1"/>
          <a:stretch/>
        </p:blipFill>
        <p:spPr>
          <a:xfrm>
            <a:off x="4284720" y="4618080"/>
            <a:ext cx="52419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eb.extension.illinois.edu/stain/images/care_label.jpg"/>
          <p:cNvPicPr/>
          <p:nvPr/>
        </p:nvPicPr>
        <p:blipFill>
          <a:blip r:embed="rId1"/>
          <a:stretch/>
        </p:blipFill>
        <p:spPr>
          <a:xfrm>
            <a:off x="2982960" y="655560"/>
            <a:ext cx="45432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othing Fiber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– natural sources (wool, cotton, silk, li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d – wood pulp &amp; oil (nylon, rayon, poly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nds – combination of th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abric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 are twisted into y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rn is woven or knitted into fa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ven – interlaced yarns (usually stiffer and stron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itted – looped yarns in interlocking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nishe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ments applied to make a certain look, feel, 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es for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lo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to wrinkles, stains, moths, shr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16:30:40Z</dcterms:created>
  <dc:creator>Mike Farver</dc:creator>
  <dc:description>Presentation Layout Template</dc:description>
  <dc:language>en-US</dc:language>
  <cp:lastModifiedBy>Mike Farver</cp:lastModifiedBy>
  <dcterms:modified xsi:type="dcterms:W3CDTF">2014-04-03T02:06:13Z</dcterms:modified>
  <cp:revision>3</cp:revision>
  <dc:subject/>
  <dc:title>White Blue and Lightnings</dc:title>
</cp:coreProperties>
</file>