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533-F54D-4758-9423-C630A0ED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76C-BBA8-4D42-A5AE-47C6FBBD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31B-A3C6-4964-8B5E-0F018C70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9DC-B2B3-4827-8323-6DEC4CD4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EE2A-7A5B-4EE7-8F75-A1E1C4AC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B27-D4BC-460F-B949-E7E99321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3B7C-4ECD-4A07-BB51-B3B6E500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0F2F-D3CB-4155-AC14-BB27964D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5148-B9D3-442D-8FA0-956C9F5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290C-2118-43FE-B1D0-556E409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F803-67D0-44C3-9C10-210169C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F68-F2FE-4F91-95F2-9F04EBDA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94D4-410A-44E6-83BE-513E11D1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2581-942C-42A1-A22F-2E84C1A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37EF-6334-4149-AFC0-AFCDC831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1EC2-DB8D-4D57-8BD5-EE57319E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BAC-305E-4D19-AC54-40A160B6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AD83-E21A-4E00-9C5A-727A9572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11CD-60D7-4722-9F2E-7B92061C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5087-0D1C-41FB-9490-4E365B3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3708-6BD4-4589-BC94-0F132837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5A0C-F0B9-4A3A-8E22-24E66CC7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F70-0911-4CF4-A9C7-C1A35F33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B3A5-012E-45C1-A93C-EB1FBF5B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21E8-9BCA-4694-94AD-9918361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507E-624B-4A73-BFBB-C85845F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D600-1316-4BDE-9F78-DC2DCCC3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04DBC-85F9-4187-AA7A-2B5167AB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DFECD-E1F0-44FC-81BA-C6E0BB0F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1657-42E6-438A-9EC3-CF634F82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E98D-68D1-48F0-A58E-555B10E7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B4858-7505-4163-BEC3-F9E3EC22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375A-ED4B-4F4B-8154-FF99937F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F83-B81F-4627-952E-B6CCCED7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3C808-A92D-4809-9313-1E0DD0CC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DE3ED-9EB9-4F9C-9D5C-485F5590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A525-3E44-489D-BD7D-BD5BFAC9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676A-C290-4786-AB73-AF5347C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30A1-F17D-4362-A3C8-9E5F2BA1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2080-AC9E-44F7-B265-A7A464F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2119-0315-497F-A7C8-5BA8DF30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8499-257C-4937-8648-CB566B06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BA0F-F415-4C62-AEAF-59DACC8E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C093A-792A-4457-8BA0-209E7765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A5D-6FE3-4582-A16A-D4994090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6AA9-636D-4B8E-8997-950EEC07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5A94-50F6-4E55-B3B8-3DE12E49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082D-6BC5-4D65-A537-3BA96551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C40F3-85D3-47A8-BD12-58403B2F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1861-BB93-48AB-8A01-CCFCB364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D6876-15DF-45C9-9BF0-FC3C20E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CF5B1-AB9C-40A1-8370-DAB6E47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CEBE8-B25D-45C9-AD0A-FE9AE0E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7CFA-CF70-49D4-B888-271BE78B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A68B7-B6D1-4898-8E36-911183F1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29F-B05F-4FAA-9AEA-282F9171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90782-9B72-451C-B26A-5A816A72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1D0C8-160D-40D6-BFCA-015F4AA6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8F6E-D45F-4F50-8CAF-812561C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540A-0EDE-406E-9C1E-10B36C74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17C7-5EFD-4049-A70A-27ADF57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AB6AF-3A96-440E-BFA2-7799166C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AEA2-F688-479C-9906-880B6384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409BB-5054-41DF-9230-B10E0DE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E029F-3B75-4BD8-8EDE-120BB2A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2FDFB-4531-487A-ABF6-00694C5A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05D-C74B-4954-AB4E-F8B3E7B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E88A-E33A-46EC-A9DA-408195A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83D0-9CE8-4170-B710-3BB5885D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E5794-BA61-4E33-8D92-1EFCA2A8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DA38A-D919-4323-85DF-944BE3C9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18E44-B54D-42DD-93FE-C5A517C6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CCC8-2EB2-4494-A95B-B143149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4FEE0-70FB-4613-A86D-1CAC7D0D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BBBFD-020E-443C-BEF4-3CBACD51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8BA6-0E66-454E-86D5-D6C0ADE6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B9A92-240E-4083-A85A-7F331912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452-FA3B-4A40-9A24-49C5F2F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AC8E4-F07F-4DB9-B207-02E0D18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131C-2580-4C78-B969-723F14D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C901-F415-406F-8D01-9AA5EA47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6E244-3BDE-4CCF-AF0A-27E2D06D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43F94-1238-42F5-9A77-B99AB261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214-1A86-4176-93D8-C327E460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7850-EBC1-4A80-8B2A-C234C5229E4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6B1D-7AE0-4DAD-BE49-29B14ECE8BC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5D99-D6A5-4BBC-9C1D-E74ABAC9821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3C2-486E-4463-AE03-1CC6412C60E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83EA-AD69-4AA3-BE1A-648233571D1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B92D-02DC-4A58-B7D7-A57D8B751B4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4238-1E9A-4355-822F-4FCC13441E7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laxxdrycleaning.com/content.aspx?id=29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8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tion 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Routine Car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nding cloth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mpty the pocke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for stai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reat soon, because older stains are tougher to remov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me clothes don’t need to be washed after each wea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aundry Time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the care specified on the item’s lab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ort by care instructions and then by light and dark colo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reat stai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ybe need to be presoaked or pretreat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ad and set the mach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detergent and any bleach or fabric soften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and Wash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d for delicate fabr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lk, wool, la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 a mild deterg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queeze the soapy water through the i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inse in cool water until the water is clea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oll the items in a towel to remove most of the wa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y out flat to air d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ying Method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umble dry – use the drying machine at the specified heat sett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ng to dry – hang them on a line to drip d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ry flat – lay on a waterproof surface to dry 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ro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moves  wrinkles from fabr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atural fibers need higher temperat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anufactured fibers need lower temperat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istilled water is recommen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3" descr="C:\Program Files\Microsoft Office\Office 2007\MEDIA\CAGCAT10\j0234266.wmf"/>
          <p:cNvPicPr/>
          <p:nvPr/>
        </p:nvPicPr>
        <p:blipFill>
          <a:blip r:embed="rId1"/>
          <a:stretch/>
        </p:blipFill>
        <p:spPr>
          <a:xfrm>
            <a:off x="6400800" y="4343400"/>
            <a:ext cx="231948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y Clean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ses special liquids instead of water to wash cloth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n be done at home with special produc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o longer must you deliver the items for clean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Relaxx Dry Clean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toring Cloth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nitted items should be fold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oven items can be hu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n’t overstuff closets and draw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prezijedi.com/wp-content/uploads/2013/10/Closet-before-and-after.jpg"/>
          <p:cNvPicPr/>
          <p:nvPr/>
        </p:nvPicPr>
        <p:blipFill>
          <a:blip r:embed="rId1"/>
          <a:stretch/>
        </p:blipFill>
        <p:spPr>
          <a:xfrm>
            <a:off x="1371600" y="1066680"/>
            <a:ext cx="658332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5T08:07:51Z</dcterms:created>
  <dc:creator>Mike Farver</dc:creator>
  <dc:description/>
  <dc:language>en-US</dc:language>
  <cp:lastModifiedBy>Mike Farver</cp:lastModifiedBy>
  <dcterms:modified xsi:type="dcterms:W3CDTF">2014-04-05T11:11:10Z</dcterms:modified>
  <cp:revision>19</cp:revision>
  <dc:subject/>
  <dc:title>Caring for Clothing</dc:title>
</cp:coreProperties>
</file>